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474A-20C7-4CFD-BE59-6E088E883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27FE-7F1C-4862-AC0E-D6BF5E099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89DE-B04E-4811-AE87-EEB37F736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0C0B-C799-4E2C-B811-B6225CDC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CAB7-EC3E-4EDB-A3D8-0084D04DC9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E8FA-A962-459F-B641-E8B76B12EF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38DC-0BE7-42E3-9C15-19AA71D47D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DBBF-F1E0-436A-91B5-23ACE48016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CE6A-6A3F-407B-B2D3-F7084413B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A8F6-A452-431F-8F3D-51552E621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20C4-3F33-4D76-B7FE-31058CDF7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5E43-A401-4BC7-A42E-CA105702C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D3EB-1890-4696-97DB-45B6E4D2E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5238-3240-4239-9D10-2817A1C740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2412-710B-435A-82A5-C5654B14F7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A7DD-6112-49AD-86EB-F54B40D2C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13A4-5E1D-4EBC-AFE4-649405F65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CF1E-4B12-457F-8ECB-9151586DD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5ECE-DD28-4837-8B53-3E7E7749D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1B6F-654C-4B49-839C-7450A7388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4F06-A787-4439-ADF4-576CE288D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D421-F397-4E62-B48F-7893928DD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3270-6457-4B25-82CF-E0359683E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5E76-0AAC-49C1-8334-0AA67D4E5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7087-858C-482D-91E1-9AB992DF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F27-4793-4F43-97DF-58C524BA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E686-3E1D-4404-A27B-19490CB2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apter 6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election, Form Fillin, and Dialog Box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BC4-B20F-4768-905C-D796F05A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ary Men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-item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267080" y="2039760"/>
            <a:ext cx="4191120" cy="2075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1905120" y="4572000"/>
            <a:ext cx="4572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What is your marital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 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  Mar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  Widowed/divorced/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B8F-2CB2-4D92-BBED-5BD0789C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-selection menus or check bo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143000" y="3022560"/>
            <a:ext cx="52005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80BA-5699-4476-ADC8-427C392C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ll-down, pop-up, and toolbar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ll-down 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available to the user on a top menu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vailable-for-selection item should be grayed out rather than rem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board shortcuts (e.g., Ctrl-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consistent, and be indicated next to th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bars, iconic 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ers actions on a displaye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customizable (because they take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-up menus appear on the display in response to a click, i.e. right mouse 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e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66F-9A4D-4F4E-A0D4-962D66124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Picture 3" descr="fig 7"/>
          <p:cNvPicPr/>
          <p:nvPr/>
        </p:nvPicPr>
        <p:blipFill>
          <a:blip r:embed="rId1"/>
          <a:stretch/>
        </p:blipFill>
        <p:spPr>
          <a:xfrm>
            <a:off x="949320" y="1219320"/>
            <a:ext cx="709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11A-B7A5-4FA9-AF47-D8D49915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4" name="Picture 3" descr="fig 7"/>
          <p:cNvPicPr/>
          <p:nvPr/>
        </p:nvPicPr>
        <p:blipFill>
          <a:blip r:embed="rId1"/>
          <a:stretch/>
        </p:blipFill>
        <p:spPr>
          <a:xfrm>
            <a:off x="1973160" y="1219320"/>
            <a:ext cx="646452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97080" y="353844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e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2DD-FA83-42E2-8B79-B769F988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 for lo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olling men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the first portion of the menu and an additional menu item, typically an arrow that leads to the next set of items in the menu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heye men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all of the menu items on the screen at once, but show only items near the cursor at full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781680" y="981000"/>
            <a:ext cx="218124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7AC2-EEB5-4693-A04D-51232A68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Tas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 for lo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of the system did not like this Fisheye menu. What are the possible ways to convert this menu to some other form of menus or interaction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781680" y="981000"/>
            <a:ext cx="218124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3170-4BA5-45AB-A463-01B4089F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 for long list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-dimensional menus (multiple colum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t and vast” two-dimensional menus give users a good overview of the choices, reduce the number of required actions, and allow rapid s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ful in web-page design because they minimize sc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endars for choosing airline departur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36A5-5EC0-4661-A621-58210768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" name="Picture 3" descr="fig 7"/>
          <p:cNvPicPr/>
          <p:nvPr/>
        </p:nvPicPr>
        <p:blipFill>
          <a:blip r:embed="rId1"/>
          <a:stretch/>
        </p:blipFill>
        <p:spPr>
          <a:xfrm>
            <a:off x="2438280" y="1600200"/>
            <a:ext cx="6400800" cy="4849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65040" y="330840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wo-Dimensional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BBF-ADE7-45E6-8FE5-F32ED523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menus and hot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menus are an alternativ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icit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any situations, however, the menu items might be embedded in text or graphics and still be sele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natural to allow users reading about people, events, and places to retrieve detailed information by selecting menus in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: hotlinks on the web, calendar months in grid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phical menus are particularly attractive to present selection options while providing context to help users make their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geographical ma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E6CA-058D-43FE-BE62-D589710C9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-related menu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multiple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movement through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with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menus and menus for small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fillin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 Bo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3CCE-1794-49EB-89FC-FBBDF736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Picture 3" descr="fig 7"/>
          <p:cNvPicPr/>
          <p:nvPr/>
        </p:nvPicPr>
        <p:blipFill>
          <a:blip r:embed="rId1"/>
          <a:stretch/>
        </p:blipFill>
        <p:spPr>
          <a:xfrm>
            <a:off x="711360" y="1219320"/>
            <a:ext cx="7569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203F-2E40-4CB3-B5E0-6315C05B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ion of Multip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 menu sequences and simultaneous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 the user through complex decision-making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decision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for novice users performing simpl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exams,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multiple active menus at the same time and allows users to enter choices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 more displa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nefit experienc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nline shopping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E83-6A6A-477F-9628-CF8520F0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maps can help users stay oriented in a large menu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for providing overviews to minimize user disori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websites, site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ion of Multip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C4A-5D98-4617-AC32-12E7800D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e-structured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collection of items grows, designers can form categories of similar items, creating a tre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 product in an online grocery store can be organized into categories such as meat, diary, cleaning products etc. Diary can be further organized into milk, cheese, yogur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ion of Multip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38671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26A-464E-4F8F-B9E1-473740FB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-related grou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ing menu items in a tree such that they are comprehensible to users and match the task structure is sometim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groups of logically similar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countries at level 1, states at level 2, and cities at 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 groups that cover all 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ge groups (0-9, 10-19, 20-29, &gt;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sure that items are non-over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“Entertainment” and “Events” are poor choices compared to “Concerts” and “Sport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that items are distinct from one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“Day” and “Night” maybe too vague; consider “6am to 6pm”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4F0-65A0-4822-A888-B9DBEDF2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 Presentatio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der of items in the menu is important, and should take natural sequence into account when possib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(chronological ord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 ordering (ascending or descending ord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 properties (increasing or decreasing length, area, volume, temperature, weight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ases have no task-related orderings, the designer must choose from such possibilities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phabetic sequence of te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ing of related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frequently used items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items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1FAE-590C-444B-BB9B-633A5BE3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6" name="Picture 3" descr="fig 7"/>
          <p:cNvPicPr/>
          <p:nvPr/>
        </p:nvPicPr>
        <p:blipFill>
          <a:blip r:embed="rId1"/>
          <a:stretch/>
        </p:blipFill>
        <p:spPr>
          <a:xfrm>
            <a:off x="681120" y="1219320"/>
            <a:ext cx="7627680" cy="5257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876920" y="42670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aptive menu: As users work with the program, the menu items that have not been selected disappear from the menu, making it sho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D9AE-7DA2-42F7-9137-BDA0E1F7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single menus, use a simple descriptive tit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linear sequence menu the title should accurately represent the stages in the linear seq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ree-structured menus, use the exact same words in the higher-level menu items as in the titles for the next lower-level me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if a menu item is called “Business and Financial Services”, the next screen should have that phrase as its tit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cy in placement of titles is al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634D-AAC4-4F8F-B80E-D67553229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layout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rasing of menu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that items are distinct from one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nsistent and concise phra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“Animal”, “Vegetable” and “Mineral” are better than “Information about Animals”, “Vegetable choices you can make” and “Viewing mineral catego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the keyword to the f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use “Size of type” instead of “Set the type siz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AB43-8BEF-41F6-B6D0-63F9485D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layout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phic layout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guidelines for consistency of at least these menu compon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s (centered or left just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 placement (justification, blank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tions (should appear in the same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messages (consistent position, terminology &amp; synt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reports (where is the user n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0524-FAD8-4FAF-B86B-87FDC1ED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esigners cannot create appropriate direct-manipulation strategies, menu selection and form fillin are attractive altern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menu items are written with familiar technology and are organized in a convenient structure and sequence, users can select items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ystems used full-screen menus with lists of numbere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tyles include pull-downs, pop-ups, checkboxes/radio buttons in dialog boxes, or embedded links on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625-8360-4AD2-BB8F-34C78C47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ntry with Menu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 Fill-in, Dialog Boxes, and Altern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 Fill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some tasks, keyboard typing is more attractive than menu selection. e.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y of personal names or nume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w instructions are necessary, since the display resembles familiar paper fo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used to get som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mbination of form fillins, pop-up or scrolling menus, and custom widgets can support rapid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204-EEA9-45DF-B457-6586BB06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-Fill-in Design 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ingful title (identify the t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hensible instructions (avoid pronouns; “you should type the addres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grouping and sequencing of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ly appealing layout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r field labels (“Home Address” instead of “Domicil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terminology and abbrev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ble space and boundaries for data-entry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correction for individual characters and entire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prevention (e.g., in numeric fields, allow only number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messages for unacceptable values (hint about permissible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ediate feedback (about errors; close to the erroneous f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fields clearly marked (should follow required fiel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natory information for fields (should be close to the f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ion signal (like “Submit”);  “how to finish” should b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7E7-6F74-4A33-BD5A-07BEE39D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-Fill-in 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Picture 3" descr="fig 7"/>
          <p:cNvPicPr/>
          <p:nvPr/>
        </p:nvPicPr>
        <p:blipFill>
          <a:blip r:embed="rId1"/>
          <a:stretch/>
        </p:blipFill>
        <p:spPr>
          <a:xfrm>
            <a:off x="2743200" y="1066680"/>
            <a:ext cx="4605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3383-A2F3-444E-B494-8EA96AC8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-specif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phabetic fields: usually left jus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 fields: may be left justified on entry but then right justified on disp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entry and display of leftmost z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lineup on decimal po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d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 numbers (_ _) _ _ _ -_ _ _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-security numbe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s _ _ : _ _   _ _ (09:30 AM or 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s (DD/MM/YYYY) or 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80880" y="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ntry with Menus: Form Fill-in, Dialog Boxes, and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2975-22F7-4FD4-8932-C638026A9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 Boxes (usually pop up on top of the scre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l layout guideli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ingful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ft to bottom-right sequenc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stering of related items within a box and emphas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terminology, fonts, capitalization, justification, and layouts (margins, white space, lines, box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80880" y="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ntry with Menus: Form Fill-in, Dialog Boxes, and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929E-2165-42E6-A8C1-AF55AFBF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 Box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 Relationsh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ooth appearance and disappea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inguishable but small bound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 small enough to reduce overlap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close to appropriate i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make disapp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how to complete/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822-33F5-41CD-8D25-01FB8461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 Menus and Menus for Small Displ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ystems in small displays and situations where hands and eyes are busy are a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tion prompts and list of options are spoken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 is normally verbal or from key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persistent, like a visual display, so memorization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menu structures should be 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ice recognition enables users to speak their options instead of hitting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ear your option again, press or say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80B-7B9F-4523-B438-5EC6D3D3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 Menus and Menus for Small Displ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5308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 for small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&amp; communic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ability is a ke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cessful designs limit the number of functions to the most essential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E144-9955-40B4-8C19-DA17DC18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-related menu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multiple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movement through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with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menus and menus for small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D88-88E3-4885-A29A-EF0CF8AF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s are effective because they support … “recognition, rather than forcing users to recall the syntax of the command from memor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indicate their choices with a pointing device or keystroke and get 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enus are effective for less-trained or intermittent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reful design of complex menus and high-speed interaction, menus can be made appealing even to expert frequent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729-0C43-409F-B279-BECCDA8DF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-Related Menu Organizatio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imary goal for menu, form-fillin, and dialog-box designers is to create a sensible, comprehensible, memorable, and convenient organization relevant to the user's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learn a few lessons by following the decomposition of a book into chapters and a program in to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erarchical decompositions are natural and comprehensible to most people but difficult to use in som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a restaurant menu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egories should be comprehensible and distinctive so that users are confident in making their s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249F-0216-4211-A105-DE84917D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-Related Menu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ies show that categorical menus (food, animals, cities) are more efficient than pure alphabe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ey to menu-structure design is first to consider task-related objects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occer match ticketing system, the task objects might be location, teams, cost, date etc, while actions might include browsing list, searching and purchasing ti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me applications, frequency of use is a useful way of organizing me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in mobil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contact” is more frequent than “Remove contac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220E-7F84-47B8-A7CC-386AB79B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-Related Menu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election applications range from trivial choices between two items to complex information systems that can lead through thousands of displ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implest applications consist of a single menu with many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group of applications uses a linear sequence of menu selection. i.e. installation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form is strict tree structure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is acyclic network (where menus are reachable by more than one path) and cyclic network (allow users to repeat menus), e.g. World Wide Web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388-5D2B-4E79-BA5A-7C15B120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ig 7"/>
          <p:cNvPicPr/>
          <p:nvPr/>
        </p:nvPicPr>
        <p:blipFill>
          <a:blip r:embed="rId1"/>
          <a:stretch/>
        </p:blipFill>
        <p:spPr>
          <a:xfrm>
            <a:off x="2971800" y="1954080"/>
            <a:ext cx="5334120" cy="4827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-Related Menu Organ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 may range from single menus to linear sequences, to hierarchical and network me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472E-E65C-4420-83B4-154A7E91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nus require users to choose between two or more items or may allow multiple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ary Menus (e.g. yes/no, true/false or male/fem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 Butt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-item Menus (allow user to chose one option from multiple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 But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-selection menus or check box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are a convenient selection method for handling multip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Dr. Mahmood K. Niazi</cp:lastModifiedBy>
  <dcterms:modified xsi:type="dcterms:W3CDTF">2018-11-04T08:52:36Z</dcterms:modified>
  <cp:revision>223</cp:revision>
  <dc:subject/>
  <dc:title>Slide 1</dc:title>
</cp:coreProperties>
</file>