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3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952200" y="755640"/>
            <a:ext cx="5041800" cy="37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4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5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5FCBD325-298C-4EA3-B0AB-10D6369FB1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0269310E-BB8D-4B62-912B-93BD2FD1C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nsity: Strength, concentration, power, force – in accounting systems give emphasis during payment of large amounts or during credit card payment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5B0EC62F-54C7-412B-9FA7-DBF8CDC42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imit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racter or sequence of characters marking the beginning or end of a unit of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038285F-AC23-4054-9016-849F3B557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imit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racter or sequence of characters marking the beginning or end of a unit of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1307CFBE-6408-4F73-A720-F339774E2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ipulation: Handling,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FD69FCAB-3DBB-4339-B8CA-7117C9C06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ipulation: Handling,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D19B0ADB-EA0D-4349-88C2-C5FB8922E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ipulation: Handling,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D7CFC1B5-8D9F-4D30-A4B4-56665168B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ipulation: Handling,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3C444AF-20A5-482B-B7BF-50A7EA39E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ipulation: Handling,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A0F29692-F5A4-4A91-9BA9-1C4A37335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ipulation: Handling,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55E4DA06-0E29-4C56-8A4E-00194B3A7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ipulation: Handling,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BB060883-F3EA-4CFD-AAAE-C642DC8C2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ipulation: Handling,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A3FF113D-C7F7-4E78-8AF4-65B7670BD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acro is a little program that repeats pre-set steps over and over a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08D04047-851E-4CC7-884B-8C0EA027A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10C47497-B10F-4E8A-B924-19674FE19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27B8-BC9F-4483-BEF8-70253F5F2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6149-5D1B-4344-86C8-5EC5671FD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A4B6-0E53-4457-9967-0E073364E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0456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13848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7240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7968-9D77-41B2-B678-B3A5CAFA0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5EE43-435C-4774-A839-6E2A45592B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9F40D-E182-4ED9-8694-DBAAC19B9F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D4613-A12A-41D3-9A3B-6F66B5A270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AC526-BAA2-419D-AC1A-F9F064051F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6A290-12E2-4A7D-8721-29125AAF73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E3E1A-BA1F-41F1-83A4-1366DB6533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8308E-7654-4C2D-BA53-4659E14B80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EE51-67A7-4719-86A1-384B57638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2FB6B-FE91-4FF4-BC3D-110EF6B4B6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FFE1A-23BA-4076-847D-403295144D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FF1FE-741B-4B2B-8994-FC5BA4B9EF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2C917-ACCF-46C9-9524-15B28669EB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0456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3848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7240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CB65-FF11-4B10-8A42-14AFF86753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3510-629D-457E-85BE-A5F6DDC6E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AEBE-80DC-437B-B243-A3B72F409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C0A6-60D5-4717-AD74-E77FD982D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56F0-A109-4017-9D7D-2D4101BA9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49B0-0015-4B65-976C-AFADE4693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C69B5-5D83-4910-9C4B-2CDAEBCA3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DCED-C238-4EC6-85FE-C39BCBF8C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ECF6-E6D5-47ED-B95D-3B404725D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40"/>
          <p:cNvGrpSpPr/>
          <p:nvPr/>
        </p:nvGrpSpPr>
        <p:grpSpPr>
          <a:xfrm>
            <a:off x="0" y="0"/>
            <a:ext cx="365040" cy="1066680"/>
            <a:chOff x="0" y="0"/>
            <a:chExt cx="365040" cy="1066680"/>
          </a:xfrm>
        </p:grpSpPr>
        <p:sp>
          <p:nvSpPr>
            <p:cNvPr id="4" name="Rectangle 19"/>
            <p:cNvSpPr/>
            <p:nvPr/>
          </p:nvSpPr>
          <p:spPr>
            <a:xfrm>
              <a:off x="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20"/>
            <p:cNvSpPr/>
            <p:nvPr/>
          </p:nvSpPr>
          <p:spPr>
            <a:xfrm>
              <a:off x="18108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1"/>
            <p:cNvSpPr/>
            <p:nvPr/>
          </p:nvSpPr>
          <p:spPr>
            <a:xfrm>
              <a:off x="27144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3"/>
            <p:cNvSpPr/>
            <p:nvPr/>
          </p:nvSpPr>
          <p:spPr>
            <a:xfrm>
              <a:off x="27144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4"/>
            <p:cNvSpPr/>
            <p:nvPr/>
          </p:nvSpPr>
          <p:spPr>
            <a:xfrm>
              <a:off x="9036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26"/>
            <p:cNvSpPr/>
            <p:nvPr/>
          </p:nvSpPr>
          <p:spPr>
            <a:xfrm>
              <a:off x="18108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27"/>
            <p:cNvSpPr/>
            <p:nvPr/>
          </p:nvSpPr>
          <p:spPr>
            <a:xfrm>
              <a:off x="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28"/>
            <p:cNvSpPr/>
            <p:nvPr/>
          </p:nvSpPr>
          <p:spPr>
            <a:xfrm>
              <a:off x="9036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51"/>
          <p:cNvGrpSpPr/>
          <p:nvPr/>
        </p:nvGrpSpPr>
        <p:grpSpPr>
          <a:xfrm>
            <a:off x="8778960" y="0"/>
            <a:ext cx="365040" cy="1066680"/>
            <a:chOff x="8778960" y="0"/>
            <a:chExt cx="365040" cy="1066680"/>
          </a:xfrm>
        </p:grpSpPr>
        <p:sp>
          <p:nvSpPr>
            <p:cNvPr id="13" name="Rectangle 52"/>
            <p:cNvSpPr/>
            <p:nvPr/>
          </p:nvSpPr>
          <p:spPr>
            <a:xfrm>
              <a:off x="877896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53"/>
            <p:cNvSpPr/>
            <p:nvPr/>
          </p:nvSpPr>
          <p:spPr>
            <a:xfrm>
              <a:off x="896004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54"/>
            <p:cNvSpPr/>
            <p:nvPr/>
          </p:nvSpPr>
          <p:spPr>
            <a:xfrm>
              <a:off x="905040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55"/>
            <p:cNvSpPr/>
            <p:nvPr/>
          </p:nvSpPr>
          <p:spPr>
            <a:xfrm>
              <a:off x="905040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56"/>
            <p:cNvSpPr/>
            <p:nvPr/>
          </p:nvSpPr>
          <p:spPr>
            <a:xfrm>
              <a:off x="886932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57"/>
            <p:cNvSpPr/>
            <p:nvPr/>
          </p:nvSpPr>
          <p:spPr>
            <a:xfrm>
              <a:off x="896004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58"/>
            <p:cNvSpPr/>
            <p:nvPr/>
          </p:nvSpPr>
          <p:spPr>
            <a:xfrm>
              <a:off x="877896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59"/>
            <p:cNvSpPr/>
            <p:nvPr/>
          </p:nvSpPr>
          <p:spPr>
            <a:xfrm>
              <a:off x="886932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Line 61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3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4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5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61" name="Rectangle 26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7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8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9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4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5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2"/>
          </p:nvPr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624D-34C5-4AFA-BB4D-769A106E0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8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6B54-0A7E-4E57-8298-402F4CC2E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hapter 2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6668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uidelines, Principles, and Theo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8378-E4E8-480F-A89A-4DC79F157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zing the displ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stency of data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ology, abbreviations, formats, color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icient information assimilation (adjustment) by th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at columns, L/R justification, lining up of decimals points, spacing, labeling, number of decimal digit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imal memory load on th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memory requirement from one screen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sks completion occur with few actions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bels &amp; common formats should be provided for novice and intermediate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tibility of data display with data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put format should be linked to the format of data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exibility for user control of data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exibility of order of columns, sorting of row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500040" y="6348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0A34-B30A-4554-8EBC-A3FF9428C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90360" y="6324480"/>
            <a:ext cx="7010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 Example - Functional overl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Bad UI Example"/>
          <p:cNvPicPr/>
          <p:nvPr/>
        </p:nvPicPr>
        <p:blipFill>
          <a:blip r:embed="rId1"/>
          <a:stretch/>
        </p:blipFill>
        <p:spPr>
          <a:xfrm>
            <a:off x="685800" y="1219320"/>
            <a:ext cx="6781680" cy="47066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zing the displ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9AC2-5CDC-46C0-BCA5-73C62B029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zing the displ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5" name="Picture 4" descr="STO09F01"/>
          <p:cNvPicPr/>
          <p:nvPr/>
        </p:nvPicPr>
        <p:blipFill>
          <a:blip r:embed="rId1"/>
          <a:stretch/>
        </p:blipFill>
        <p:spPr>
          <a:xfrm>
            <a:off x="1447920" y="981000"/>
            <a:ext cx="515448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7733-DC1D-4688-890E-4C89A9014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ting the user’s atten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lining, box, arrow, asterisk, bullet, dash, plus sigh, o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z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four sizes only, with larger sizes attracting more at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oice of fo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three fonts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erse video (inverse colo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ink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with great care and in limit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f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di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 tones for regular positive feedback, harsh for rare emergency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e5"/>
                </a:solidFill>
                <a:latin typeface="Arial"/>
                <a:ea typeface="ＭＳ Ｐゴシック"/>
              </a:rPr>
              <a:t>Overusing these techniques may result in cluttered disp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Arial"/>
                <a:ea typeface="ＭＳ Ｐゴシック"/>
              </a:rPr>
              <a:t>Navigating th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Arial"/>
              </a:rPr>
              <a:t>Organizing the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Arial"/>
                <a:ea typeface="ＭＳ Ｐゴシック"/>
              </a:rPr>
              <a:t>Getting the user’s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ing data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500040" y="6348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1E2C-71D3-4C4D-9688-7C001AA28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558720" y="304920"/>
            <a:ext cx="562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UI design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BC12-92BF-45E8-9BD1-8DCED3077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ating data entr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stency of data-entry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ilar sequences of actions under al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ilar abbreviations, and so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imal input actions by user (increases producti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ing a choice by a single key, mouse etc rather than by typing in a lengthy 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ing from the list of choice eliminates need for mem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oid frequent movement between keyboard &amp;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oid redundant data-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imal memory load on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ngthy list of codes, complex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tibility of data entry with data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5F0F-884F-4913-A2D0-23DB0FFBC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ating data entr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ggest one way to improve data entry (i.e., data entry of an item without any err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with your collea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366E-926C-4B8F-BC67-A752401A0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ating data entry – bard co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0" name="Picture 5" descr="Figure 14-02"/>
          <p:cNvPicPr/>
          <p:nvPr/>
        </p:nvPicPr>
        <p:blipFill>
          <a:blip r:embed="rId1"/>
          <a:stretch/>
        </p:blipFill>
        <p:spPr>
          <a:xfrm>
            <a:off x="1860480" y="895320"/>
            <a:ext cx="54324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20BE-A939-42AD-8A0E-4F700515D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56A6-5A79-495F-9785-A9934729A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cipl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le guidelines are narrowly focused, principles tend to be more fundamental, widely applicable, and enduring tha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damental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e user’s skil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y th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ve primary interaction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ght golden rules of interfac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ven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212F-CCFE-40C5-B152-7D35456AE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463D-DA46-45BA-8DD8-D441C990F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e user’s skill leve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 thy user” was the first principle in Hansen (1971) classic list of user-engineering princi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designs should begin with an understanding of the intende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, gender, physical and cognitive abilities, education, cultural or ethnic background, training, motivation, goals and pers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variables: location (e.g. urban vs. rural), economic profile, disabilities, and attitude towards using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understanding of users’ skills with interfaces and with the application domain is also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7DDA-DB42-4F69-8246-880CF34AA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e user’s skill leve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ration of users into various groups might lead to different design goals.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vice or first-time user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amples grandparents sending their first email to a grandchild. Limitations can be overcome by instructions, dialog box and online hel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ber of actions should be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eful design of user manuals is re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ledgeable intermitt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ample managers using word processing to create templates for travel reimbursements. They have stable tasks concept but they have difficulty of locating different features of word proce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can be addressed by consistent terminology and ordering different fe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ert frequ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y demand rapid response time and shortcuts to perform different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2CF1-BE88-47CC-83E5-4BAF5DDF0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y the task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et of tasks must be determined before design can proc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sk analysis usually involve long hours observing and interviewing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sk analysis is a long and difficul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helps designers to understand tasks frequencies and sequences and make the tough decisions about what tasks to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B7BB-BEE5-4785-8663-3C913BFC5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y the task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omposition of high lev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gh level tasks can be decomposed into middle level tasks which can be further refined into atomic actions that users execute with a singl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tive task frequencies: frequent vs. infrequ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187280" y="3079800"/>
            <a:ext cx="6737400" cy="34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283A-21D1-4719-B40B-DABF1BE90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oose an interaction sty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 Mani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a clever designer can create a visual representation of the world, the users’ tasks can be simplified, e.g. 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gging a file to a trash can is a familiar example of direct mani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nu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s read a list of items, select the one most appropriate to their tasks and observe the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priate for novice and intermittent us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 fil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s must understand the fields labels, know the permissible values and the data entry methods and be capable of responding to error messa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and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learn the syntax and can perform tasks rapidly. Error messages and online assistance are hard to provide. Suitable for experienced computer programm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 language interaction usually provides little context for issuing the next command, requires clarification dialog and may be s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4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2C55-5A06-4EA9-A2FC-2F3D35E8F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manipulation advantag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feel in control of the computer and are less likely to be intimidated by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learning time is relatively 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get immediate feedback on their actions so mistakes can be quickly detected and corre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D534-54B8-44C4-A42D-D42ABCF53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manipulation proble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good for vision-impaire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manipulation interfaces can be complex to program and make heavy demands on the comput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tial or visual representations can be too spread out forcing valuable information off-screen causing scrolling or multipl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visual representation may be misl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ing commands with the keyboard my be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-based implementers face further challenges because of the limitations of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3E85-C593-4934-8AFF-F3D9E291D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u Syste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make a selection from a list of possibilities presented to them by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lection may be made by pointing and clicking with a mouse, using cursor keys or by typing the name of th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make use of simple-to-use terminals such as touchscre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4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15B3-28EB-4F1B-8987-E87F71D9B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u Systems Advantag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need not remember command names as they are always presented with a list of valid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ng effort is mi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errors are trapped by th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-dependent help can be provided. The user’s context is indicated by the current menu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4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0CB9-A306-4235-B1C5-7E19A608D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u Systems Disadvantag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 systems are best suited to presenting a small number of choices. If there are many choices, some menu structuring facility must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d users find menus slower than command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A95E-7B99-4846-8027-D10874D84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uttered displays, complex procedures, inadequate functionality, inconsistent sequences of actions, and insufficient informative feedback can generate stress and anx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erfectly understandable that users whose network connections drop as they are completing lengthy online purchase orders may become frustrated even ang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xperiences can lead to poor performance, job dissatisfaction, and consumer fru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lines, principles and theories which can provide remedies and prevention have matured in recent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0233-AA95-4952-9F87-56CB7D956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Interfac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types commands to give instructions to the system e.g. U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have to learn and remember a command language. Command interfaces are therefore unsuitable for occasiona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make errors in command. An error detection and recovery system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interaction is through a keyboard so typing ability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provided as an alternative to menu commands (keyboard shortcut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preferred by experienced users because they allow for faster interaction with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4465-5EBA-4BD0-94BC-F8743B1DF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Langua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types a command in a natural language. Generally, the vocabulary is limited and these systems are confined to specific application domains (e.g. timetable enqui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L processing technology is now good enough to make these interfaces effective for casual users but experienced users find that they require too much ty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4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B089-E4F3-4877-88CE-FA70C8356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oose an interaction sty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7010280" cy="57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4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0252-D935-4463-BB86-8B09DA4B2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oose an interaction sty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457200" y="1092240"/>
            <a:ext cx="83138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F252-3AE3-4C62-AE4B-1D7DEB88C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oose an interaction sty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761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ending several interaction styles may be appropriate when the required tasks and users are di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3248-4076-4267-8790-59CA5EBED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ive for consistency: Terminology, sequence, menu, help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ter to universal usability: Novices, experts, disabilities, age rang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er informative feedback: System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 dialogs to yield closure: Sequence start, middle an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vent errors: Grey out menus not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it easy reversal of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 internal locus (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  <a:ea typeface="ＭＳ Ｐゴシック"/>
              </a:rPr>
              <a:t>the place where some action occ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of control: Experienced users want more control and want system should respond to their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 short term memory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380880" y="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eight golden rules of interfac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DDEC-72F2-4F60-BCB6-2D1E8F573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vent erro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vent errors in the first place. If a user makes an error, present a good error mess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 error messages specific, positive in tone, and constru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iques to reduc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 it difficult or impossible to take an incorrect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y out inappropriate 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ion rather than freestyle ty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matic command completion, i.e. users type the first few letters and the systems complete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yle formats in word proc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cros and subrout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BCFC-4DF4-4F73-A0E6-11D6CFE3E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mation and human control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91920" y="1218960"/>
            <a:ext cx="74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ccessful integ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s can avo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9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ine, tedious, and error pron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s can concentrate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9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ing critical decisions, coping with unexpected situations, and planning future 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01F5-0D76-49D9-9053-4A07B0AD9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mation and human control (cont.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9680" y="1218960"/>
            <a:ext cx="7373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visory control needed to deal with real world ope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ample, in the air-traffic systems the controllers must be present to deal with the highly variable and unpredictable emergency si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Aviation Authority stresses that a design should place the user in control and automate only to improve system performance, without reducing human invol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500040" y="6348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4B79-124D-4727-BB22-0C3470635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design principle which emphasizes the importance of keeping the UI as simple as pos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I should be communicated clearly and simply in the users’ own langu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the UI simpl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I designer should employ actions, icons, words, and user interface controls that ar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atural to the us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tasks should be broken into simpler subtasks, to keep the behavior and the UI appearance as natural as possible for the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1000-5D47-44F6-B23C-E9588DEE5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uidelin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uidelines are based o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 best practices derived from practical experience or empirical studies with appropriate examples, work of graphics des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mote consistency among multiple designers in terminology, appearance, and a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e and Microsoft guidelines for desktop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uidelines for the web and mobil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itics (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  <a:ea typeface="ＭＳ Ｐゴシック"/>
              </a:rPr>
              <a:t>review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o specific, incomplete, hard to apply, and sometimes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nents (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  <a:ea typeface="ＭＳ Ｐゴシック"/>
              </a:rPr>
              <a:t>One who argues in support of somet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ilding on experience from design leaders contributes to steady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  <a:ea typeface="ＭＳ Ｐゴシック"/>
              </a:rPr>
              <a:t>Both groups recognise the value of discussion in promoting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6"/>
          <p:cNvSpPr/>
          <p:nvPr/>
        </p:nvSpPr>
        <p:spPr>
          <a:xfrm>
            <a:off x="500040" y="6348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D23E-BF6C-4AB4-8E9F-A674FA858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3657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home page for the National Park Service in the United States is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imple, uncluttered, and well structu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graphic at the to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flects the theme of the site, and it refreshes to show a view of a different park each time you visi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arious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avigation lin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om the home page (Explore Now, Message from the Director, Park of the Week, Bookshop, News &amp; Information, etc.) are mostly worded in such a way that they are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imple to understand and easily differenti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0" y="12189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STO09F01"/>
          <p:cNvPicPr/>
          <p:nvPr/>
        </p:nvPicPr>
        <p:blipFill>
          <a:blip r:embed="rId1"/>
          <a:stretch/>
        </p:blipFill>
        <p:spPr>
          <a:xfrm>
            <a:off x="3684600" y="228600"/>
            <a:ext cx="51544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500040" y="6348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9571-2466-44D3-B1C7-654FC844E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design principle that emphasizes the importance of organizing the UI in a meaningful and useful 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 that users think of as related should appear together on the 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6"/>
          <p:cNvSpPr/>
          <p:nvPr/>
        </p:nvSpPr>
        <p:spPr>
          <a:xfrm>
            <a:off x="500040" y="6348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7DA8-E159-4155-8324-4AD604B6B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Print dialog in Word 97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yout of the dialog box’s window shows how related information can be grouped into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ra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or exampl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i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ge r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p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rouping of information helps the users to anticipate that a particular frame will contain all the controls needed for a set of related tas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0" y="12189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STO09F02"/>
          <p:cNvPicPr/>
          <p:nvPr/>
        </p:nvPicPr>
        <p:blipFill>
          <a:blip r:embed="rId1"/>
          <a:stretch/>
        </p:blipFill>
        <p:spPr>
          <a:xfrm>
            <a:off x="3962520" y="1623960"/>
            <a:ext cx="48816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500040" y="6348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7456-0CD2-44BD-BCA2-7287D7500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ist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design principle that emphasizes the importance of uniformity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n appearance, placement, and behavi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in the UI to make a system easy to learn and rememb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develop a mental model of the UI and then use the model to predict how subsequent screens will appear and how the UI will beha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way to ensure consistency is through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500040" y="6348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2567-A02B-497E-93AE-7E47925D7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Microsoft office sui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look and feel, and the arrangement and labels of most of the menu items are simi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1901880" y="2664000"/>
            <a:ext cx="6508800" cy="765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2"/>
          <a:stretch/>
        </p:blipFill>
        <p:spPr>
          <a:xfrm>
            <a:off x="1901880" y="3743280"/>
            <a:ext cx="6480000" cy="887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1901880" y="4967280"/>
            <a:ext cx="64800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2619-2EB9-4E14-A885-83920D431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or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ptive and Explanatory theo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theories are helpful in developing consistent terminology for objects and actions, thereby supporting collaboration and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ive theo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 designers to compare proposed designs for execution time or error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4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A074-B8B4-437F-93E4-2134A5173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stency through grammar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2666880"/>
            <a:ext cx="861048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Consist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Inconsistent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Inconsistent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delete/insert charac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delete/insert charac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delete/inser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delete/insert w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remove/bring w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remove/inser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delete/insert 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destroy/create 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delete/insert 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delete/insert para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kill/birth para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delete/insert para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580D-50CB-4B66-88FB-14EE2B8B6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stency through grammars (cont.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onsistent action ver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e longer to lear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use more err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ow down us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rder for users to remem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A2A4-DA16-45A0-819F-3CD8D110C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Activ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 Mani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nu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 fil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and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ggest a new interaction style which can be used in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B9F2-2EA5-41F2-B23E-DDF607F96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vigating th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the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ting the user’s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ing data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500040" y="6348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715B-CB05-4146-BF45-1E06E9ECB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58720" y="304920"/>
            <a:ext cx="562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UI design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3512-491A-4B20-A7A3-F05B517DC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vigating the interfa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ndardize task sequences: Allow users to perform tasks in the same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ure that embedded links are descriptive: The link text should accurately describe the link’s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unique and descriptive h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check boxes for binary choices: choice between “on” or “off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 pages that will print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thumbnail images to preview larger images: When viewing full-size images is not critical, first provide a thumbnail of th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077120" y="6172200"/>
            <a:ext cx="56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tailed guidelines on www.usability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F752-9C69-4D09-9C68-C7B5D426D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vigating the interfa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8" name="Picture 6" descr="Figure 14-03b"/>
          <p:cNvPicPr/>
          <p:nvPr/>
        </p:nvPicPr>
        <p:blipFill>
          <a:blip r:embed="rId1"/>
          <a:stretch/>
        </p:blipFill>
        <p:spPr>
          <a:xfrm>
            <a:off x="533520" y="1390680"/>
            <a:ext cx="8076960" cy="44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BB69-37D8-40A7-BAAD-E76D2AE17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vigating the interfa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1" name="Picture 6" descr="Figure 14-03a"/>
          <p:cNvPicPr/>
          <p:nvPr/>
        </p:nvPicPr>
        <p:blipFill>
          <a:blip r:embed="rId1"/>
          <a:stretch/>
        </p:blipFill>
        <p:spPr>
          <a:xfrm>
            <a:off x="1219320" y="1143000"/>
            <a:ext cx="6705360" cy="50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17A1-DCC3-40D5-9C91-F289035CF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ssibility guidelin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ss Board (www.access-board.gov/508.htm), a US agency, adapted guidelines about accessibility for people with disabiliti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few of Accessibility Guidelin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a text equivalent for every non-text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ny time-based multimedia presentation (i.e. movies), synchronize equivalent alternatives (i.e. caption, auditory descrip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tion conveyed with color should also be conveyed withou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tle each frame to facilitate frame identification and 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303560" y="6095880"/>
            <a:ext cx="68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tailed guidelines on www.w3.org/TR/WCAG20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01:06:32Z</dcterms:created>
  <dc:creator>Roger</dc:creator>
  <dc:description/>
  <dc:language>en-US</dc:language>
  <cp:lastModifiedBy>niazi</cp:lastModifiedBy>
  <dcterms:modified xsi:type="dcterms:W3CDTF">2018-02-15T04:57:45Z</dcterms:modified>
  <cp:revision>134</cp:revision>
  <dc:subject/>
  <dc:title>Slide 1</dc:title>
</cp:coreProperties>
</file>