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AA494-C0D4-4863-ABF7-247D2CDA08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891EE-A8AA-4BC6-A1C1-9D6F76529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8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- Players in the Systems 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2288B-C077-476E-8AA5-42D742625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304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379D9-E2D6-4098-BF7E-6737ADAF4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aching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rder for use cases to be successful, participation by the user is imperat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D83AD-DDFB-41E0-8948-D0589DA24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aching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rder for use cases to be successful, participation by the user is imperat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8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- Players in the Systems 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9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F3B5E-3F78-4F82-B06E-B18728F33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91323-3E97-46EB-9FB0-2DCBDC8695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04560" y="396540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4261B-E72E-4539-8FD0-EF93C7081C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304560" y="39654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99720" y="39654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B3B27-71ED-4F8F-83C3-420C8116BE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138480" y="121896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72400" y="121896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304560" y="396540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138480" y="396540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72400" y="396540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1858C-952B-4B3A-9F67-36A227C58B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BD289-BC81-4F8C-A6DA-CA12B00DA23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A4BA3-6DFA-427C-BA5D-70167F2A6F7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8678D-944A-486C-990E-71860FDD23B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02871-7A88-44D0-988A-17DF8F708E8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741C1-BE4B-4D8A-A789-7482F48DB5E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382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CB726-2A30-46F2-BE0F-4BCD673ED98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560" y="39654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58DF4-7F13-41AF-810F-9AF932B570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25E11-AAF4-4307-B15D-7AA7D4956D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99720" y="39654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07508-BBE0-4378-B0C8-298AF53015B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04560" y="396540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68632-9A3B-4763-97BC-2899E56593C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04560" y="396540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29062-79B6-4608-8436-0EDA3385A8F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04560" y="39654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99720" y="39654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05D28-5447-43D8-9A18-B4D79F96EE6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138480" y="121896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72400" y="121896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04560" y="396540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138480" y="396540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72400" y="396540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D7C47-77CC-4769-889C-72D79DC3052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8B35-148D-4CA5-A21D-953370AF120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6D4F-4237-47F6-B740-993EAF92F69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FACD-1AB4-4D4D-BAEB-20DCBD63D90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76B4-9427-4A96-8BF2-45DF507C8D7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9B99-6787-458B-AD64-F803CEAD63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5EAF0-C929-4A06-8E34-9E4FF3D68BD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382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8433-B3C0-40E7-A13E-9D3BA672A98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04560" y="39654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DB22-D58B-4C2B-9AD3-A6295A78F3C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99720" y="39654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82BC-FC49-4C38-A9D2-B30CB8F98EF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04560" y="396540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AE3D-1D4C-4775-B280-925EE123814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04560" y="396540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9142-952C-4A77-B642-AE8EC1FEFBD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04560" y="39654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99720" y="39654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19FB-990E-4D89-B16F-E726CF75D1D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138480" y="121896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72400" y="121896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04560" y="396540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138480" y="396540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72400" y="396540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B35E-4F4E-4D9A-B7E1-A5055AD86C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C86FE-3344-4A72-AF86-F39C6FDE45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14382-E2F1-4996-AB82-1F57A94088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382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A35B7-161C-46B8-85C8-65A2914A0E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560" y="39654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FB85C-06C4-4A07-8AB0-2BC4361383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99720" y="39654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ADC74-60A7-401C-9B92-136DBA3EAE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560" y="396540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12525-4F7E-43C1-A508-CEBF1AAC38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FADD3-5551-4558-9016-F4C5EAE736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solidFill>
            <a:srgbClr val="00007d">
              <a:alpha val="6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40"/>
          <p:cNvGrpSpPr/>
          <p:nvPr/>
        </p:nvGrpSpPr>
        <p:grpSpPr>
          <a:xfrm>
            <a:off x="0" y="0"/>
            <a:ext cx="365040" cy="1066680"/>
            <a:chOff x="0" y="0"/>
            <a:chExt cx="365040" cy="1066680"/>
          </a:xfrm>
        </p:grpSpPr>
        <p:sp>
          <p:nvSpPr>
            <p:cNvPr id="4" name="Rectangle 19"/>
            <p:cNvSpPr/>
            <p:nvPr/>
          </p:nvSpPr>
          <p:spPr>
            <a:xfrm>
              <a:off x="0" y="850320"/>
              <a:ext cx="90360" cy="2163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20"/>
            <p:cNvSpPr/>
            <p:nvPr/>
          </p:nvSpPr>
          <p:spPr>
            <a:xfrm>
              <a:off x="181080" y="211680"/>
              <a:ext cx="91800" cy="2217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21"/>
            <p:cNvSpPr/>
            <p:nvPr/>
          </p:nvSpPr>
          <p:spPr>
            <a:xfrm>
              <a:off x="271440" y="0"/>
              <a:ext cx="93600" cy="2145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23"/>
            <p:cNvSpPr/>
            <p:nvPr/>
          </p:nvSpPr>
          <p:spPr>
            <a:xfrm>
              <a:off x="271440" y="211680"/>
              <a:ext cx="93600" cy="2217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24"/>
            <p:cNvSpPr/>
            <p:nvPr/>
          </p:nvSpPr>
          <p:spPr>
            <a:xfrm>
              <a:off x="90360" y="425160"/>
              <a:ext cx="92160" cy="213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26"/>
            <p:cNvSpPr/>
            <p:nvPr/>
          </p:nvSpPr>
          <p:spPr>
            <a:xfrm>
              <a:off x="181080" y="425160"/>
              <a:ext cx="91800" cy="213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27"/>
            <p:cNvSpPr/>
            <p:nvPr/>
          </p:nvSpPr>
          <p:spPr>
            <a:xfrm>
              <a:off x="0" y="635400"/>
              <a:ext cx="90360" cy="22068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28"/>
            <p:cNvSpPr/>
            <p:nvPr/>
          </p:nvSpPr>
          <p:spPr>
            <a:xfrm>
              <a:off x="90360" y="635400"/>
              <a:ext cx="92160" cy="2206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" name="Group 51"/>
          <p:cNvGrpSpPr/>
          <p:nvPr/>
        </p:nvGrpSpPr>
        <p:grpSpPr>
          <a:xfrm>
            <a:off x="8778960" y="0"/>
            <a:ext cx="365040" cy="1066680"/>
            <a:chOff x="8778960" y="0"/>
            <a:chExt cx="365040" cy="1066680"/>
          </a:xfrm>
        </p:grpSpPr>
        <p:sp>
          <p:nvSpPr>
            <p:cNvPr id="13" name="Rectangle 52"/>
            <p:cNvSpPr/>
            <p:nvPr/>
          </p:nvSpPr>
          <p:spPr>
            <a:xfrm>
              <a:off x="8778960" y="850320"/>
              <a:ext cx="90360" cy="2163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53"/>
            <p:cNvSpPr/>
            <p:nvPr/>
          </p:nvSpPr>
          <p:spPr>
            <a:xfrm>
              <a:off x="8960040" y="211680"/>
              <a:ext cx="91800" cy="2217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54"/>
            <p:cNvSpPr/>
            <p:nvPr/>
          </p:nvSpPr>
          <p:spPr>
            <a:xfrm>
              <a:off x="9050400" y="0"/>
              <a:ext cx="93600" cy="2145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55"/>
            <p:cNvSpPr/>
            <p:nvPr/>
          </p:nvSpPr>
          <p:spPr>
            <a:xfrm>
              <a:off x="9050400" y="211680"/>
              <a:ext cx="93600" cy="2217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56"/>
            <p:cNvSpPr/>
            <p:nvPr/>
          </p:nvSpPr>
          <p:spPr>
            <a:xfrm>
              <a:off x="8869320" y="425160"/>
              <a:ext cx="92160" cy="213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57"/>
            <p:cNvSpPr/>
            <p:nvPr/>
          </p:nvSpPr>
          <p:spPr>
            <a:xfrm>
              <a:off x="8960040" y="425160"/>
              <a:ext cx="91800" cy="213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58"/>
            <p:cNvSpPr/>
            <p:nvPr/>
          </p:nvSpPr>
          <p:spPr>
            <a:xfrm>
              <a:off x="8778960" y="635400"/>
              <a:ext cx="90360" cy="22068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59"/>
            <p:cNvSpPr/>
            <p:nvPr/>
          </p:nvSpPr>
          <p:spPr>
            <a:xfrm>
              <a:off x="8869320" y="635400"/>
              <a:ext cx="92160" cy="2206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2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3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4"/>
          <p:cNvGrpSpPr/>
          <p:nvPr/>
        </p:nvGrpSpPr>
        <p:grpSpPr>
          <a:xfrm>
            <a:off x="0" y="1066680"/>
            <a:ext cx="2867040" cy="3157560"/>
            <a:chOff x="0" y="1066680"/>
            <a:chExt cx="2867040" cy="3157560"/>
          </a:xfrm>
        </p:grpSpPr>
        <p:sp>
          <p:nvSpPr>
            <p:cNvPr id="60" name="Rectangle 25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26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27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28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29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30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31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32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33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34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solidFill>
            <a:srgbClr val="00007d">
              <a:alpha val="6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sldNum" idx="2"/>
          </p:nvPr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B26F3-F790-465D-AEBC-803CD382E0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40"/>
          <p:cNvGrpSpPr/>
          <p:nvPr/>
        </p:nvGrpSpPr>
        <p:grpSpPr>
          <a:xfrm>
            <a:off x="0" y="0"/>
            <a:ext cx="365040" cy="1066680"/>
            <a:chOff x="0" y="0"/>
            <a:chExt cx="365040" cy="1066680"/>
          </a:xfrm>
        </p:grpSpPr>
        <p:sp>
          <p:nvSpPr>
            <p:cNvPr id="110" name="Rectangle 19"/>
            <p:cNvSpPr/>
            <p:nvPr/>
          </p:nvSpPr>
          <p:spPr>
            <a:xfrm>
              <a:off x="0" y="850320"/>
              <a:ext cx="90360" cy="2163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20"/>
            <p:cNvSpPr/>
            <p:nvPr/>
          </p:nvSpPr>
          <p:spPr>
            <a:xfrm>
              <a:off x="181080" y="211680"/>
              <a:ext cx="91800" cy="2217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21"/>
            <p:cNvSpPr/>
            <p:nvPr/>
          </p:nvSpPr>
          <p:spPr>
            <a:xfrm>
              <a:off x="271440" y="0"/>
              <a:ext cx="93600" cy="2145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23"/>
            <p:cNvSpPr/>
            <p:nvPr/>
          </p:nvSpPr>
          <p:spPr>
            <a:xfrm>
              <a:off x="271440" y="211680"/>
              <a:ext cx="93600" cy="2217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24"/>
            <p:cNvSpPr/>
            <p:nvPr/>
          </p:nvSpPr>
          <p:spPr>
            <a:xfrm>
              <a:off x="90360" y="425160"/>
              <a:ext cx="92160" cy="213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26"/>
            <p:cNvSpPr/>
            <p:nvPr/>
          </p:nvSpPr>
          <p:spPr>
            <a:xfrm>
              <a:off x="181080" y="425160"/>
              <a:ext cx="91800" cy="213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27"/>
            <p:cNvSpPr/>
            <p:nvPr/>
          </p:nvSpPr>
          <p:spPr>
            <a:xfrm>
              <a:off x="0" y="635400"/>
              <a:ext cx="90360" cy="22068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28"/>
            <p:cNvSpPr/>
            <p:nvPr/>
          </p:nvSpPr>
          <p:spPr>
            <a:xfrm>
              <a:off x="90360" y="635400"/>
              <a:ext cx="92160" cy="2206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51"/>
          <p:cNvGrpSpPr/>
          <p:nvPr/>
        </p:nvGrpSpPr>
        <p:grpSpPr>
          <a:xfrm>
            <a:off x="8778960" y="0"/>
            <a:ext cx="365040" cy="1066680"/>
            <a:chOff x="8778960" y="0"/>
            <a:chExt cx="365040" cy="1066680"/>
          </a:xfrm>
        </p:grpSpPr>
        <p:sp>
          <p:nvSpPr>
            <p:cNvPr id="119" name="Rectangle 52"/>
            <p:cNvSpPr/>
            <p:nvPr/>
          </p:nvSpPr>
          <p:spPr>
            <a:xfrm>
              <a:off x="8778960" y="850320"/>
              <a:ext cx="90360" cy="2163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53"/>
            <p:cNvSpPr/>
            <p:nvPr/>
          </p:nvSpPr>
          <p:spPr>
            <a:xfrm>
              <a:off x="8960040" y="211680"/>
              <a:ext cx="91800" cy="2217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54"/>
            <p:cNvSpPr/>
            <p:nvPr/>
          </p:nvSpPr>
          <p:spPr>
            <a:xfrm>
              <a:off x="9050400" y="0"/>
              <a:ext cx="93600" cy="2145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5"/>
            <p:cNvSpPr/>
            <p:nvPr/>
          </p:nvSpPr>
          <p:spPr>
            <a:xfrm>
              <a:off x="9050400" y="211680"/>
              <a:ext cx="93600" cy="2217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6"/>
            <p:cNvSpPr/>
            <p:nvPr/>
          </p:nvSpPr>
          <p:spPr>
            <a:xfrm>
              <a:off x="8869320" y="425160"/>
              <a:ext cx="92160" cy="213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7"/>
            <p:cNvSpPr/>
            <p:nvPr/>
          </p:nvSpPr>
          <p:spPr>
            <a:xfrm>
              <a:off x="8960040" y="425160"/>
              <a:ext cx="91800" cy="213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8"/>
            <p:cNvSpPr/>
            <p:nvPr/>
          </p:nvSpPr>
          <p:spPr>
            <a:xfrm>
              <a:off x="8778960" y="635400"/>
              <a:ext cx="90360" cy="22068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59"/>
            <p:cNvSpPr/>
            <p:nvPr/>
          </p:nvSpPr>
          <p:spPr>
            <a:xfrm>
              <a:off x="8869320" y="635400"/>
              <a:ext cx="92160" cy="2206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Straight Connector 22"/>
          <p:cNvSpPr/>
          <p:nvPr/>
        </p:nvSpPr>
        <p:spPr>
          <a:xfrm>
            <a:off x="304920" y="914400"/>
            <a:ext cx="8458200" cy="1440"/>
          </a:xfrm>
          <a:prstGeom prst="line">
            <a:avLst/>
          </a:prstGeom>
          <a:ln w="9360">
            <a:solidFill>
              <a:srgbClr val="9393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solidFill>
            <a:srgbClr val="00007d">
              <a:alpha val="6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3"/>
          </p:nvPr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7E76A-7E23-4EE2-8ACE-817793396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18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A457F-E0CD-4722-B033-9F61520AB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Chapter 3</a:t>
            </a:r>
            <a:endParaRPr b="0" lang="en-US" sz="3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3123720" y="4343400"/>
            <a:ext cx="58676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aging Design Pro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D075F-2CAC-4EE4-B6BC-38877FAF8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uidelines documents and process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arly in the design process, the UI architects should generate a set of working guidelines (Chapter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.g. Microsoft’s Windows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ach project has different needs, but guidelines should be considered for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ords, icons, and graph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rminology, abbreviations, and capit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racter set, fonts, font sizes, and sty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cons, buttons, graphics, and line thick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of color, backgrounds, highlighting, and b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84DD5-E66C-4D7D-8D9F-C2FCB7ED4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uidelines documents and process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reen-layout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nu selection, form fill-in, and dialog-box forma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ording of prompts, feedback, and error messa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ustification, white space, and margi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entry and display formats for items and li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and contents of headers and foot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put and output devi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eyboard, display, and pointing dev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dible sounds, voice feedback, touch inp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ponse time for a variety of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ternatives for users with disabil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F443B-9402-414E-AE33-D57228001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uidelines documents and process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tion sequen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rect-manipulation clicking, dragging, dropping, and gest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mand syntax, and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ortcuts and programmed function ke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ror handling and recovery proced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i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line help and tutori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ining and reference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1C6B9-9A50-4126-B13D-14CC56499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ommendations for guidelines document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304920" y="990720"/>
            <a:ext cx="86104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elines creation should be a social process within an organization to help it gain visibility and build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ords decisions for all parties to s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motes consistency and complet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ilitates automation of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multiple lev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igid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cepted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lexible guide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nounces policies for (4 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ducation: users training (how to get 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forcement: Who will review the guide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emption: room for creative ideas and new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hancement: reviewing and improving the guide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8B16E-F6E2-4CDC-B08C-ACA173EA8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-interface software tool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difficulty in designing interactive systems is that users may not have a clear idea of what the system will look l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difficult, costly, and time-consuming to make major changes to systems after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no complete solution to this problem but it can be reduced by developing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ototyp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tools are available for developing prototypes at different level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typing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65120" indent="-46512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prototype is an initial version of a system which may be used for experi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s are valuable for requirements elicitation because users can experiment with the system and point out its strengths and weaknesses. They have something concrete to critic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apid development of prototypes is essential so that they are available early in the elicitatio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ow-away prototy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olutionary (Executable) prototy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826920" y="15228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typing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E314A-6748-425B-8CAB-C82805921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t reviews and usability testing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rehearsals are necessary for theaters, different tests are necessary for aircrafts designers, expert reviews and usability tests are necessary for interactive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detail in Chapter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37822-3AE4-48B3-83ED-EB330D258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hnographic Observa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214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s Ethnograp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ticipant observation: joining work or home environments to listen and observe carefully to understand individual behavior, work, and organizational context. It may involve asking questions and participating in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ditional ethnographers may continue for weeks and month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-interface designers need to limit this process for days or even 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advantag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 is easy to misinterpret observations and to overlook important information. Also difficult to use the generate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4E9D8-972B-42C2-BED9-C936532E6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delines for Ethnographic observa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derstand organization policies and work cult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miliarize yourself with the system and its histo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t initial goals and prepare ques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access and permission to observe/intervie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eld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ablish rapport (understanding) with managers and us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serve/interview users in their workplace and collect quantitative/qualitative da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your vis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2FE08-A954-473D-9980-5F8774585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 (usability engineer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 pillars of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method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hnographic obser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enario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D2D67-D1F0-43E8-B3D5-787654916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delines for Ethnographic observa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ile the collected data in numerical, textual, and multimedia databas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ntify data and compile statistic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 and interpret the da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0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e a report and present the finding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A4C95-334D-4ACB-A264-B3406E4D8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ticipatory Desig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457200" y="1295280"/>
            <a:ext cx="83818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participatory desig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igners and users communicate about proposed desig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ared representations of screen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-design using simple tools such as paper or video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14716-D5B6-4588-887E-3E7A224E7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ticipatory Design: Controvers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the positive side, more user involvement brin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re accurate information about tas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re opportunity for users to influence design decis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sense of participation and ownership in us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tential for increased user acceptance of final sys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4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BFAB8-A710-45EE-990D-EC0B3DB28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ticipatory Design: Controvers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negative side, extensive user involvement m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 more cost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ngthen the implementation peri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ild antagonism with people not involved or whose suggestions are rejec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0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ce designers to compromise their design to satisfy incompetent participa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eate personality conflicts between design-team members and us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23820-6144-4BD4-B352-F131D4CA9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enario Developmen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racterize what happens when users perform typical tas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ory like descriptions about the usage of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present typical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represent common or emergency situations with both novice and expert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y uses of scenari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sk 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sis of evalu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sks descriptions (more formal than scenari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-cases (often used these day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lowch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05586-6C5C-4EA0-BB8B-4E405E8E5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enario Develop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Example Use Cas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87160" y="980640"/>
            <a:ext cx="859284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Cash withdrawal from an ATM</a:t>
            </a:r>
            <a:r>
              <a:rPr b="0" lang="en-GB" sz="2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000000"/>
                </a:solidFill>
                <a:uFillTx/>
                <a:latin typeface="Arial"/>
              </a:rPr>
              <a:t>NORMAL CO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 greeting message is wa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customer inserts card into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f card is acceptable ask for P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customer enters P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f PIN is correct display customer accounts and request se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customer selects an accou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ATM displays the account lim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customer enters the withdrawal am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bills are dispen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card is ej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receipt is printed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3AD58-A708-425E-B5CB-2F957AA38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304560" y="1193400"/>
            <a:ext cx="859284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Cash withdrawal from an ATM</a:t>
            </a:r>
            <a:r>
              <a:rPr b="0" lang="en-GB" sz="2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000000"/>
                </a:solidFill>
                <a:uFillTx/>
                <a:latin typeface="Arial"/>
              </a:rPr>
              <a:t>ALTERNATE CO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ard is not accep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ncorrect PIN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ithdrawal request too l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ustomer canc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enario Develop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Example Use Cas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se modeling and documenting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56" name="Picture 5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799308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57AC5-909B-4346-907D-B1ECF9389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 (usability engineer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 pillars of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method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hnographic obser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enario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E56FD-CCFC-4D41-9CC8-9B201D953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ability Engineering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ound the world, usability engineering is becoming a recognised discipline with maturing practices and a growing set of standa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bility engineering is a systematic approach to making software easier to use for the individuals who actually use it to get their work d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 software engineering, it is an evolving science that determines best practices and continually tests and refines its techniqu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5EF98-4B4E-4D70-BCE1-DE9784D8B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ganizational Design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 Usabilit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ganisations are becoming more aware of the importance of us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n competitive products provide similar functionality, usability engineering is vital for product accept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y organisations have created usability labora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ganisations awareness can be stimulated by “usability day” presentations, internal seminars, newsletters and awa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istance to new techniques and a changing role for software engineers can cause problems in organis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315200" cy="4935600"/>
          </a:xfrm>
          <a:prstGeom prst="rect">
            <a:avLst/>
          </a:prstGeom>
          <a:ln w="0">
            <a:noFill/>
          </a:ln>
        </p:spPr>
      </p:pic>
      <p:sp>
        <p:nvSpPr>
          <p:cNvPr id="187" name="Slide Number Placeholder 5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-</a:t>
            </a:r>
            <a:fld id="{CA0E08F2-BE1A-49FC-AC67-0A552AC73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ur Pillars of Desig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Interfa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iciting and clearly specifying user requirements is a major key to success in any development activ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ing out the user-interface requirements is part of the overall requirements development and managemen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interface requirements describe system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hnographic Obser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ying and observing the user community in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cussed la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5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-</a:t>
            </a:r>
            <a:fld id="{F7519356-2A69-443B-94BA-25BE1BF97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Interface Requirement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EA51-31CC-4E88-B882-3FB7AAB38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Object 5"/>
          <p:cNvGraphicFramePr/>
          <p:nvPr/>
        </p:nvGraphicFramePr>
        <p:xfrm>
          <a:off x="304920" y="2133720"/>
          <a:ext cx="8305560" cy="33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133720"/>
                    <a:ext cx="83055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Interface Requirement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E1354-643F-4B49-AD72-D665E59B8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Interface Requirement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685800" y="1219320"/>
            <a:ext cx="77724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65120" indent="-46512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s elic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455400">
              <a:lnSpc>
                <a:spcPct val="10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quirements discovered through consultation with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s analysis and negot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455400">
              <a:lnSpc>
                <a:spcPct val="10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quirements are analysed and conflicts resolved through negot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s 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455400">
              <a:lnSpc>
                <a:spcPct val="10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requirements document is produ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s 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455400">
              <a:lnSpc>
                <a:spcPct val="10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requirements document is checked for consistency and complet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3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7B7A-B5D1-4757-8214-42F636CD0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7"/>
          <p:cNvGrpSpPr/>
          <p:nvPr/>
        </p:nvGrpSpPr>
        <p:grpSpPr>
          <a:xfrm>
            <a:off x="838080" y="2819520"/>
            <a:ext cx="4572000" cy="3886200"/>
            <a:chOff x="838080" y="2819520"/>
            <a:chExt cx="4572000" cy="3886200"/>
          </a:xfrm>
        </p:grpSpPr>
        <p:sp>
          <p:nvSpPr>
            <p:cNvPr id="201" name="Rectangle 4"/>
            <p:cNvSpPr/>
            <p:nvPr/>
          </p:nvSpPr>
          <p:spPr>
            <a:xfrm>
              <a:off x="838080" y="2819520"/>
              <a:ext cx="4572000" cy="38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4640" bIns="44640" anchor="t">
              <a:normAutofit/>
            </a:bodyPr>
            <a:p>
              <a:pPr marL="465120" indent="-465120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Dissertation is well writt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65120" indent="-465120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65120" indent="-465120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lear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65120" indent="-465120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interesting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65120" indent="-465120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lots of web references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65120" indent="-465120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Lots of web refere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65120" indent="-465120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65120" indent="-465120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Ten to twenty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5"/>
            <p:cNvSpPr/>
            <p:nvPr/>
          </p:nvSpPr>
          <p:spPr>
            <a:xfrm>
              <a:off x="1904760" y="320040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6"/>
            <p:cNvSpPr/>
            <p:nvPr/>
          </p:nvSpPr>
          <p:spPr>
            <a:xfrm>
              <a:off x="2120760" y="56390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ments Discovery – Laddering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8600" y="990720"/>
            <a:ext cx="8534520" cy="15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6512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d to unpack the respondents’ concepts systemat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als with hierarchically arranged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01:06:32Z</dcterms:created>
  <dc:creator>Roger</dc:creator>
  <dc:description/>
  <dc:language>en-US</dc:language>
  <cp:lastModifiedBy>Dr. Mahmood K. Niazi</cp:lastModifiedBy>
  <dcterms:modified xsi:type="dcterms:W3CDTF">2018-10-01T13:21:30Z</dcterms:modified>
  <cp:revision>109</cp:revision>
  <dc:subject/>
  <dc:title>Slide 1</dc:title>
</cp:coreProperties>
</file>