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</p:sldIdLst>
  <p:sldSz cx="9144000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8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952200" y="755640"/>
            <a:ext cx="5041800" cy="37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93360" y="4789440"/>
            <a:ext cx="555948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9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10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2EF4956-4B51-4AAE-960F-F8F36BAB3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2A709EC-795B-4881-9B56-05D673B0E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FC5E422-9750-4EF0-89B9-5798D0A1A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DF890D5-2A59-4568-8B49-E6471404C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13C21A3-A1B6-428D-9149-EE9750914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6E0B7B7-559A-4DE7-BA99-4F4987ADA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31176FC-09A6-45D8-ADA5-86660FF8A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dditional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3AD5636-9A91-49B2-9767-00F6384B1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dditional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BFC2BEB-AA7F-49DF-B054-30EE757CE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1B423FA-2C64-4A18-A48A-0C08AE7D5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66AF87E-0530-4548-9AEC-6035F6250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3924E63-23BD-4FEE-B842-272ED04BB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D47A181-9111-488A-BE99-B2D74966E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D4644BF-098A-403B-86F5-D57A6A76B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8F63E8F-609A-448E-B29A-3DE845811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2EE7844-EC49-464F-A438-41B695CAB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50760" y="757080"/>
            <a:ext cx="5042160" cy="37814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26640" y="4789080"/>
            <a:ext cx="50929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BFA199E-D67A-4C7A-8A24-D14C26CC6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50760" y="757080"/>
            <a:ext cx="5042160" cy="37814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26640" y="4789080"/>
            <a:ext cx="50929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22BDBE4-2ED4-44AE-BA40-FB923483A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0760" y="757080"/>
            <a:ext cx="5042160" cy="37814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26640" y="4789080"/>
            <a:ext cx="50929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ABC742A-3662-46EC-A126-BC15D4636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50760" y="757080"/>
            <a:ext cx="5042160" cy="37814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26640" y="4789080"/>
            <a:ext cx="50929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0D73-0C27-4D19-B9E6-90486A165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B6DE-6498-428D-BA46-B98C4B20E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455D-BB40-42A4-87B8-17CF6B6FE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F93A-A0A1-422D-90ED-F7A79609B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3B9E-2BD7-471E-8DC6-2A2A02D92B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9A58-6488-448B-8EE9-EDA1DDCD5A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E91E-3D0B-4C97-A6C4-3091B88843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4E0B-A3C3-4BE1-A62E-37639D0D04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8590-C1E6-43EE-B5ED-C888A2BDF2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3DD4-989B-4C57-A4A2-90D2E425C2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8229-E759-4930-9FEE-1DED3B448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755A-0DD2-457B-90ED-333AD849F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C6F9-D09B-459D-92FA-A181EDFEC9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CE5C6-F866-4945-9F38-50CDD67DC7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A3DE-5DCF-4FCB-880E-AA831F5059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25BA0-B8D3-4C14-8B19-3E44D13448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628E-8419-4E08-9162-EC6DB0AFA5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C56-B29A-436E-AAEF-5882FFF828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55E-9451-4D77-9623-ECBDA6FD67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2D6-C3A4-464B-BB25-95EF74BFBD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D3D-1177-431F-A617-CA7D08E8AE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937-1011-4409-8BE6-5BDE55A67C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59C0-6407-423F-8D5D-33056204AE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B14-1972-465B-BF3C-737500AFE2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B29-B9F4-422E-B2B8-D25FD7B03F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D66-A0BF-4F58-B85A-37E8CA3271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964-FF5A-4603-A9D7-3140CC8E6E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611-3F9F-4A02-889C-BE832023E5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C34-D14D-4DFE-9808-C8C83AC6B5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98B-8409-4A8F-BF9D-6158FBC80D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9342-5400-4FF8-823F-61514677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6290-3039-4C1D-B812-E4FE1500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9AB8-1C5B-423E-91A3-9B5E11C7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FC4E-0E48-4A26-9A8B-7AA0067CE7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30AD-ECFB-4FB4-B4CC-72CA4672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1050-82A7-4241-943B-D90AE938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E481-BC61-4A92-A21E-8F4A4C9F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2402-BFF3-4D13-AC79-963A125D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4E45-DC81-4216-B75E-B8E99E3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1E67-CAF4-4ACC-98C3-FDBBE63D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FEFD-8256-4F9C-A830-99CD3F3F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C32D-9B03-40FF-A1E3-6D1A9F08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8843-F536-452D-9534-43DB7BCE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1AB2-B535-43F4-9958-97A1434DF3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99EC-FC02-449D-BFE4-02C937A85E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2EE6-2D26-42B7-8BBD-F0ADF1142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39A6-2EE7-42A9-B4E5-20C611622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8561-564B-4F93-B04C-BB5C41C5E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0E16-273D-4330-8BE7-44EDE9558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4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3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60" name="Rectangle 2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116C-5BFB-4F63-9564-796C1C17F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110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19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Straight Connector 22"/>
          <p:cNvSpPr/>
          <p:nvPr/>
        </p:nvSpPr>
        <p:spPr>
          <a:xfrm>
            <a:off x="304920" y="990720"/>
            <a:ext cx="8458200" cy="1440"/>
          </a:xfrm>
          <a:prstGeom prst="line">
            <a:avLst/>
          </a:prstGeom>
          <a:ln w="936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3509-FB66-4F2A-ABB8-4B020F5A6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168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77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5"/>
          </p:nvPr>
        </p:nvSpPr>
        <p:spPr>
          <a:xfrm>
            <a:off x="6934320" y="63241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 312 (1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6"/>
          </p:nvPr>
        </p:nvSpPr>
        <p:spPr>
          <a:xfrm>
            <a:off x="499680" y="6347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E8A8-C939-4C67-AA3B-6B4522C3B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227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236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7"/>
          </p:nvPr>
        </p:nvSpPr>
        <p:spPr>
          <a:xfrm>
            <a:off x="2286000" y="6248520"/>
            <a:ext cx="59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ool of Computing and Mathematics , Keel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8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53BB-B13E-4A9A-8CE1-54F30161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Task and User Analysi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 Mahmood Nia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263520"/>
            <a:ext cx="7956720" cy="573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-cases are a scenario based technique in the UML which identify the actors in an interaction and which describe the interactio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et of use cases should describe all possible interactions with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ce diagrams may be used to add detail to use-cases by showing the sequence of event processing in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228240" y="1052640"/>
            <a:ext cx="86691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behaviorally related sequence of steps (a scenario), both automated and manual for the purpose of completing a single business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 case represents steps in a specific bus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ubmit change of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intain membe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ke purchase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"/>
          <p:cNvGrpSpPr/>
          <p:nvPr/>
        </p:nvGrpSpPr>
        <p:grpSpPr>
          <a:xfrm>
            <a:off x="5703840" y="4437000"/>
            <a:ext cx="2971800" cy="1282680"/>
            <a:chOff x="5703840" y="4437000"/>
            <a:chExt cx="2971800" cy="1282680"/>
          </a:xfrm>
        </p:grpSpPr>
        <p:sp>
          <p:nvSpPr>
            <p:cNvPr id="319" name="Oval 5"/>
            <p:cNvSpPr/>
            <p:nvPr/>
          </p:nvSpPr>
          <p:spPr>
            <a:xfrm>
              <a:off x="5703840" y="4437000"/>
              <a:ext cx="2590920" cy="7621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5780160" y="53514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ke appoin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modeling and documen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533520" y="1126800"/>
            <a:ext cx="836424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anything that needs to interact with the system to exchange information. An actor is a user, a role, which could be an external system as well as a person.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ub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octor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5438520" y="3137040"/>
            <a:ext cx="428760" cy="939240"/>
            <a:chOff x="5438520" y="3137040"/>
            <a:chExt cx="428760" cy="939240"/>
          </a:xfrm>
        </p:grpSpPr>
        <p:sp>
          <p:nvSpPr>
            <p:cNvPr id="324" name="Oval 4"/>
            <p:cNvSpPr/>
            <p:nvPr/>
          </p:nvSpPr>
          <p:spPr>
            <a:xfrm>
              <a:off x="5546880" y="3137040"/>
              <a:ext cx="212400" cy="2250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5653080" y="3362040"/>
              <a:ext cx="214200" cy="714240"/>
            </a:xfrm>
            <a:custGeom>
              <a:avLst/>
              <a:gdLst/>
              <a:ahLst/>
              <a:rect l="l" t="t" r="r" b="b"/>
              <a:pathLst>
                <a:path w="30" h="95">
                  <a:moveTo>
                    <a:pt x="0" y="0"/>
                  </a:moveTo>
                  <a:lnTo>
                    <a:pt x="0" y="45"/>
                  </a:lnTo>
                  <a:lnTo>
                    <a:pt x="30" y="95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6"/>
            <p:cNvSpPr/>
            <p:nvPr/>
          </p:nvSpPr>
          <p:spPr>
            <a:xfrm flipH="1">
              <a:off x="5438520" y="3700440"/>
              <a:ext cx="214200" cy="37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7"/>
            <p:cNvSpPr/>
            <p:nvPr/>
          </p:nvSpPr>
          <p:spPr>
            <a:xfrm flipH="1">
              <a:off x="5438880" y="3474720"/>
              <a:ext cx="428400" cy="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Line 8"/>
          <p:cNvSpPr/>
          <p:nvPr/>
        </p:nvSpPr>
        <p:spPr>
          <a:xfrm>
            <a:off x="4624560" y="522936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modeling and documen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modeling and documen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47530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-39600" y="6381720"/>
            <a:ext cx="32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y/Cashman/Rosenblatt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781200" y="125424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Use case can also interact with other us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539640" y="2079720"/>
          <a:ext cx="8136000" cy="37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79720"/>
                    <a:ext cx="8136000" cy="37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4"/>
          <p:cNvSpPr/>
          <p:nvPr/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Use Case modeling and docum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-39600" y="6381720"/>
            <a:ext cx="32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y/Cashman/Rosenblatt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Identifying Actors and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Constructing a Use Case Model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Document the Use Case Course of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modeling and documen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68000" y="121932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and user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the users and identifying the primary inputs and outputs of the system and the external parties that receive and submi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409320" y="304920"/>
            <a:ext cx="85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 1: Identifying Actors and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228600" y="1433520"/>
            <a:ext cx="2666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 case model diagram is a visual summary of several related use cases within a system or sub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2971800" y="1125360"/>
          <a:ext cx="600084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125360"/>
                    <a:ext cx="600084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Constructing a Use case Model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-39600" y="6381720"/>
            <a:ext cx="32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y/Cashman/Rosenblatt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625840" y="2597040"/>
            <a:ext cx="2520720" cy="1800"/>
          </a:xfrm>
          <a:prstGeom prst="rect">
            <a:avLst/>
          </a:prstGeom>
          <a:solidFill>
            <a:srgbClr val="ae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5172120" y="2597040"/>
            <a:ext cx="3451320" cy="1800"/>
          </a:xfrm>
          <a:prstGeom prst="rect">
            <a:avLst/>
          </a:prstGeom>
          <a:solidFill>
            <a:srgbClr val="ae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172120" y="3849840"/>
            <a:ext cx="3451320" cy="1440"/>
          </a:xfrm>
          <a:prstGeom prst="rect">
            <a:avLst/>
          </a:prstGeom>
          <a:solidFill>
            <a:srgbClr val="ae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6"/>
          <p:cNvGraphicFramePr/>
          <p:nvPr/>
        </p:nvGraphicFramePr>
        <p:xfrm>
          <a:off x="457200" y="1042920"/>
          <a:ext cx="830592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42920"/>
                    <a:ext cx="830592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7"/>
          <p:cNvSpPr/>
          <p:nvPr/>
        </p:nvSpPr>
        <p:spPr>
          <a:xfrm>
            <a:off x="-39600" y="6381720"/>
            <a:ext cx="32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y/Cashman/Rosenblatt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723960" y="361800"/>
            <a:ext cx="66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Documenting the Use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user involv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ew of the desired system’s functionality from an external person’s view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ffective tool for validating require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ffective communication to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709560" y="228600"/>
            <a:ext cx="53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Using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relationship between goals, tasks and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different techniques for task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needs of users of different experience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ners, intermediates, and exp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95280" y="1095120"/>
            <a:ext cx="85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Cash withdrawal from an 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4"/>
          <p:cNvGrpSpPr/>
          <p:nvPr/>
        </p:nvGrpSpPr>
        <p:grpSpPr>
          <a:xfrm>
            <a:off x="228600" y="1844640"/>
            <a:ext cx="8610120" cy="4248360"/>
            <a:chOff x="228600" y="1844640"/>
            <a:chExt cx="8610120" cy="4248360"/>
          </a:xfrm>
        </p:grpSpPr>
        <p:sp>
          <p:nvSpPr>
            <p:cNvPr id="358" name="Rectangle 5"/>
            <p:cNvSpPr/>
            <p:nvPr/>
          </p:nvSpPr>
          <p:spPr>
            <a:xfrm>
              <a:off x="2381040" y="1844640"/>
              <a:ext cx="3767040" cy="424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"/>
            <p:cNvSpPr/>
            <p:nvPr/>
          </p:nvSpPr>
          <p:spPr>
            <a:xfrm>
              <a:off x="3008880" y="1996200"/>
              <a:ext cx="2780280" cy="68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Withdraw ca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7"/>
            <p:cNvSpPr/>
            <p:nvPr/>
          </p:nvSpPr>
          <p:spPr>
            <a:xfrm>
              <a:off x="3008880" y="3058200"/>
              <a:ext cx="2780280" cy="68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Transfer f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3008880" y="4044600"/>
              <a:ext cx="2780280" cy="68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Deposit f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3008880" y="5031000"/>
              <a:ext cx="2780280" cy="68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Get re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10"/>
            <p:cNvGrpSpPr/>
            <p:nvPr/>
          </p:nvGrpSpPr>
          <p:grpSpPr>
            <a:xfrm>
              <a:off x="318240" y="4954680"/>
              <a:ext cx="1609920" cy="1074600"/>
              <a:chOff x="318240" y="4954680"/>
              <a:chExt cx="1609920" cy="1074600"/>
            </a:xfrm>
          </p:grpSpPr>
          <p:graphicFrame>
            <p:nvGraphicFramePr>
              <p:cNvPr id="364" name="Object 11"/>
              <p:cNvGraphicFramePr/>
              <p:nvPr/>
            </p:nvGraphicFramePr>
            <p:xfrm>
              <a:off x="674640" y="4954680"/>
              <a:ext cx="1098360" cy="72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5" name="Object 1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74640" y="4954680"/>
                        <a:ext cx="1098360" cy="72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6" name="Rectangle 12"/>
              <p:cNvSpPr/>
              <p:nvPr/>
            </p:nvSpPr>
            <p:spPr>
              <a:xfrm>
                <a:off x="318240" y="5697000"/>
                <a:ext cx="1609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6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3"/>
            <p:cNvGrpSpPr/>
            <p:nvPr/>
          </p:nvGrpSpPr>
          <p:grpSpPr>
            <a:xfrm>
              <a:off x="228600" y="2147760"/>
              <a:ext cx="1524600" cy="1394280"/>
              <a:chOff x="228600" y="2147760"/>
              <a:chExt cx="1524600" cy="1394280"/>
            </a:xfrm>
          </p:grpSpPr>
          <p:graphicFrame>
            <p:nvGraphicFramePr>
              <p:cNvPr id="368" name="Object 14"/>
              <p:cNvGraphicFramePr/>
              <p:nvPr/>
            </p:nvGraphicFramePr>
            <p:xfrm>
              <a:off x="876960" y="2147760"/>
              <a:ext cx="399960" cy="1023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69" name="Object 1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76960" y="2147760"/>
                        <a:ext cx="39996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70" name="Rectangle 15"/>
              <p:cNvSpPr/>
              <p:nvPr/>
            </p:nvSpPr>
            <p:spPr>
              <a:xfrm>
                <a:off x="228600" y="3209760"/>
                <a:ext cx="15246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6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16"/>
            <p:cNvSpPr/>
            <p:nvPr/>
          </p:nvSpPr>
          <p:spPr>
            <a:xfrm flipV="1">
              <a:off x="1573920" y="2374920"/>
              <a:ext cx="1434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7"/>
            <p:cNvSpPr/>
            <p:nvPr/>
          </p:nvSpPr>
          <p:spPr>
            <a:xfrm>
              <a:off x="1573920" y="2678760"/>
              <a:ext cx="1434960" cy="68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8"/>
            <p:cNvSpPr/>
            <p:nvPr/>
          </p:nvSpPr>
          <p:spPr>
            <a:xfrm>
              <a:off x="1573920" y="2906640"/>
              <a:ext cx="143496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9"/>
            <p:cNvSpPr/>
            <p:nvPr/>
          </p:nvSpPr>
          <p:spPr>
            <a:xfrm flipV="1">
              <a:off x="2112120" y="5409720"/>
              <a:ext cx="896760" cy="15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20"/>
            <p:cNvSpPr/>
            <p:nvPr/>
          </p:nvSpPr>
          <p:spPr>
            <a:xfrm>
              <a:off x="6955200" y="3361680"/>
              <a:ext cx="1883520" cy="78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1"/>
            <p:cNvSpPr/>
            <p:nvPr/>
          </p:nvSpPr>
          <p:spPr>
            <a:xfrm>
              <a:off x="5609880" y="2451240"/>
              <a:ext cx="134532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2"/>
            <p:cNvSpPr/>
            <p:nvPr/>
          </p:nvSpPr>
          <p:spPr>
            <a:xfrm>
              <a:off x="5789520" y="3437640"/>
              <a:ext cx="116568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3"/>
            <p:cNvSpPr/>
            <p:nvPr/>
          </p:nvSpPr>
          <p:spPr>
            <a:xfrm flipV="1">
              <a:off x="5789520" y="3968640"/>
              <a:ext cx="1165680" cy="45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4"/>
            <p:cNvSpPr/>
            <p:nvPr/>
          </p:nvSpPr>
          <p:spPr>
            <a:xfrm>
              <a:off x="1573920" y="3285720"/>
              <a:ext cx="1524960" cy="197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5"/>
            <p:cNvSpPr/>
            <p:nvPr/>
          </p:nvSpPr>
          <p:spPr>
            <a:xfrm flipV="1">
              <a:off x="5789520" y="4195800"/>
              <a:ext cx="1434600" cy="11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27"/>
          <p:cNvSpPr/>
          <p:nvPr/>
        </p:nvSpPr>
        <p:spPr>
          <a:xfrm>
            <a:off x="625320" y="22860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87160" y="980640"/>
            <a:ext cx="85928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Cash withdrawal from an 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NORM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greeting message is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ustomer inserts card into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f card is acceptable ask for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ustomer enters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f PIN is correct display customer accounts and request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ustomer selects an accou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TM displays the account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ustomer enters the withdrawal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bills are dispen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ard is 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ceipt is print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625320" y="22860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560" y="1193400"/>
            <a:ext cx="859284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Cash withdrawal from an 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ALTERNATE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rd is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correct PI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ithdrawal request too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ustomer canc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625320" y="22860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3"/>
          <p:cNvGrpSpPr/>
          <p:nvPr/>
        </p:nvGrpSpPr>
        <p:grpSpPr>
          <a:xfrm>
            <a:off x="-36000" y="1068480"/>
            <a:ext cx="9180000" cy="5162040"/>
            <a:chOff x="-36000" y="1068480"/>
            <a:chExt cx="9180000" cy="5162040"/>
          </a:xfrm>
        </p:grpSpPr>
        <p:sp>
          <p:nvSpPr>
            <p:cNvPr id="387" name="Oval 4"/>
            <p:cNvSpPr/>
            <p:nvPr/>
          </p:nvSpPr>
          <p:spPr>
            <a:xfrm>
              <a:off x="2286000" y="2050920"/>
              <a:ext cx="20574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y So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5"/>
            <p:cNvSpPr/>
            <p:nvPr/>
          </p:nvSpPr>
          <p:spPr>
            <a:xfrm>
              <a:off x="2286000" y="3408480"/>
              <a:ext cx="20574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t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2286000" y="4870440"/>
              <a:ext cx="20574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7"/>
            <p:cNvSpPr/>
            <p:nvPr/>
          </p:nvSpPr>
          <p:spPr>
            <a:xfrm>
              <a:off x="1981440" y="1212840"/>
              <a:ext cx="2590560" cy="457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8"/>
            <p:cNvSpPr/>
            <p:nvPr/>
          </p:nvSpPr>
          <p:spPr>
            <a:xfrm>
              <a:off x="2286000" y="1371600"/>
              <a:ext cx="20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da Mach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9"/>
            <p:cNvGrpSpPr/>
            <p:nvPr/>
          </p:nvGrpSpPr>
          <p:grpSpPr>
            <a:xfrm>
              <a:off x="609480" y="1974960"/>
              <a:ext cx="533520" cy="761760"/>
              <a:chOff x="609480" y="1974960"/>
              <a:chExt cx="533520" cy="761760"/>
            </a:xfrm>
          </p:grpSpPr>
          <p:sp>
            <p:nvSpPr>
              <p:cNvPr id="393" name="Oval 10"/>
              <p:cNvSpPr/>
              <p:nvPr/>
            </p:nvSpPr>
            <p:spPr>
              <a:xfrm>
                <a:off x="676440" y="1974960"/>
                <a:ext cx="399960" cy="268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1"/>
              <p:cNvSpPr/>
              <p:nvPr/>
            </p:nvSpPr>
            <p:spPr>
              <a:xfrm>
                <a:off x="609840" y="23331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2"/>
              <p:cNvSpPr/>
              <p:nvPr/>
            </p:nvSpPr>
            <p:spPr>
              <a:xfrm>
                <a:off x="876600" y="2243880"/>
                <a:ext cx="0" cy="26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13"/>
              <p:cNvSpPr/>
              <p:nvPr/>
            </p:nvSpPr>
            <p:spPr>
              <a:xfrm flipH="1">
                <a:off x="609480" y="2512800"/>
                <a:ext cx="266760" cy="17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14"/>
              <p:cNvSpPr/>
              <p:nvPr/>
            </p:nvSpPr>
            <p:spPr>
              <a:xfrm>
                <a:off x="876600" y="2512800"/>
                <a:ext cx="266400" cy="22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"/>
            <p:cNvGrpSpPr/>
            <p:nvPr/>
          </p:nvGrpSpPr>
          <p:grpSpPr>
            <a:xfrm>
              <a:off x="533160" y="3332160"/>
              <a:ext cx="533880" cy="761760"/>
              <a:chOff x="533160" y="3332160"/>
              <a:chExt cx="533880" cy="761760"/>
            </a:xfrm>
          </p:grpSpPr>
          <p:sp>
            <p:nvSpPr>
              <p:cNvPr id="399" name="Oval 16"/>
              <p:cNvSpPr/>
              <p:nvPr/>
            </p:nvSpPr>
            <p:spPr>
              <a:xfrm>
                <a:off x="600120" y="3332160"/>
                <a:ext cx="399960" cy="268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17"/>
              <p:cNvSpPr/>
              <p:nvPr/>
            </p:nvSpPr>
            <p:spPr>
              <a:xfrm>
                <a:off x="533520" y="369072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8"/>
              <p:cNvSpPr/>
              <p:nvPr/>
            </p:nvSpPr>
            <p:spPr>
              <a:xfrm>
                <a:off x="800280" y="3601080"/>
                <a:ext cx="0" cy="26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9"/>
              <p:cNvSpPr/>
              <p:nvPr/>
            </p:nvSpPr>
            <p:spPr>
              <a:xfrm flipH="1">
                <a:off x="533160" y="3870000"/>
                <a:ext cx="266760" cy="17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20"/>
              <p:cNvSpPr/>
              <p:nvPr/>
            </p:nvSpPr>
            <p:spPr>
              <a:xfrm>
                <a:off x="800280" y="3870000"/>
                <a:ext cx="266400" cy="22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1"/>
            <p:cNvGrpSpPr/>
            <p:nvPr/>
          </p:nvGrpSpPr>
          <p:grpSpPr>
            <a:xfrm>
              <a:off x="533160" y="4794120"/>
              <a:ext cx="533880" cy="761760"/>
              <a:chOff x="533160" y="4794120"/>
              <a:chExt cx="533880" cy="761760"/>
            </a:xfrm>
          </p:grpSpPr>
          <p:sp>
            <p:nvSpPr>
              <p:cNvPr id="405" name="Oval 22"/>
              <p:cNvSpPr/>
              <p:nvPr/>
            </p:nvSpPr>
            <p:spPr>
              <a:xfrm>
                <a:off x="600120" y="4794120"/>
                <a:ext cx="399960" cy="268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23"/>
              <p:cNvSpPr/>
              <p:nvPr/>
            </p:nvSpPr>
            <p:spPr>
              <a:xfrm>
                <a:off x="533520" y="515268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24"/>
              <p:cNvSpPr/>
              <p:nvPr/>
            </p:nvSpPr>
            <p:spPr>
              <a:xfrm>
                <a:off x="800280" y="5063040"/>
                <a:ext cx="0" cy="26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5"/>
              <p:cNvSpPr/>
              <p:nvPr/>
            </p:nvSpPr>
            <p:spPr>
              <a:xfrm flipH="1">
                <a:off x="533160" y="5331960"/>
                <a:ext cx="266760" cy="17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6"/>
              <p:cNvSpPr/>
              <p:nvPr/>
            </p:nvSpPr>
            <p:spPr>
              <a:xfrm>
                <a:off x="800280" y="5331960"/>
                <a:ext cx="266400" cy="22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Line 27"/>
            <p:cNvSpPr/>
            <p:nvPr/>
          </p:nvSpPr>
          <p:spPr>
            <a:xfrm>
              <a:off x="1295640" y="517536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>
              <a:off x="1295640" y="371304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1295640" y="235584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0"/>
            <p:cNvSpPr/>
            <p:nvPr/>
          </p:nvSpPr>
          <p:spPr>
            <a:xfrm>
              <a:off x="293400" y="258372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1"/>
            <p:cNvSpPr/>
            <p:nvPr/>
          </p:nvSpPr>
          <p:spPr>
            <a:xfrm>
              <a:off x="-36000" y="4091400"/>
              <a:ext cx="17139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lier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resent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2"/>
            <p:cNvSpPr/>
            <p:nvPr/>
          </p:nvSpPr>
          <p:spPr>
            <a:xfrm>
              <a:off x="261720" y="54936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l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3"/>
            <p:cNvSpPr/>
            <p:nvPr/>
          </p:nvSpPr>
          <p:spPr>
            <a:xfrm>
              <a:off x="4648320" y="1068480"/>
              <a:ext cx="4495680" cy="216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 inserting money into mach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/she makes a sel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machine has at least 1 can of selected soda in st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chine present a cold can to the 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 flipV="1">
              <a:off x="4343400" y="2203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5"/>
            <p:cNvSpPr/>
            <p:nvPr/>
          </p:nvSpPr>
          <p:spPr>
            <a:xfrm>
              <a:off x="4648320" y="3513240"/>
              <a:ext cx="4495680" cy="271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lier unsecures the machine (unlocking a lock), pulls open the front of the mach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lier fills each brand’s compartment to capa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lier refills the change reser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lier closes the front of the machine and secures 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6"/>
            <p:cNvSpPr/>
            <p:nvPr/>
          </p:nvSpPr>
          <p:spPr>
            <a:xfrm>
              <a:off x="4343400" y="36511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38"/>
          <p:cNvSpPr/>
          <p:nvPr/>
        </p:nvSpPr>
        <p:spPr>
          <a:xfrm>
            <a:off x="625320" y="22860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Use Cases: Class activ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560" y="1231920"/>
            <a:ext cx="8592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typical post office and the processes involved in selling stamps, renting post office boxes and delivering mail to postal cust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Identify possible actors and use cases involved in post office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Create a use case diagram for any two use cases of the post offic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Complete a use case description document for any one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395280" y="4708440"/>
            <a:ext cx="859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6600"/>
                </a:solidFill>
                <a:latin typeface="Arial"/>
                <a:ea typeface="MS Mincho"/>
              </a:rPr>
              <a:t>Actor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Mincho"/>
              </a:rPr>
              <a:t> might include Customer, Postal Worker, and Route Carrie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6600"/>
                </a:solidFill>
                <a:latin typeface="Arial"/>
                <a:ea typeface="MS Mincho"/>
              </a:rPr>
              <a:t>Use cas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Mincho"/>
              </a:rPr>
              <a:t> might include Buy Stamps, Manage Stamp Inventory, Rent P.O. Box, Certify Mail, Deliver Mail, Sort Incoming 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Use Cases diagra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5" name="Group 3"/>
          <p:cNvGrpSpPr/>
          <p:nvPr/>
        </p:nvGrpSpPr>
        <p:grpSpPr>
          <a:xfrm>
            <a:off x="866880" y="1736640"/>
            <a:ext cx="1374840" cy="1638360"/>
            <a:chOff x="866880" y="1736640"/>
            <a:chExt cx="1374840" cy="1638360"/>
          </a:xfrm>
        </p:grpSpPr>
        <p:grpSp>
          <p:nvGrpSpPr>
            <p:cNvPr id="426" name="Group 4"/>
            <p:cNvGrpSpPr/>
            <p:nvPr/>
          </p:nvGrpSpPr>
          <p:grpSpPr>
            <a:xfrm>
              <a:off x="1323720" y="1736640"/>
              <a:ext cx="365040" cy="1081080"/>
              <a:chOff x="1323720" y="1736640"/>
              <a:chExt cx="365040" cy="1081080"/>
            </a:xfrm>
          </p:grpSpPr>
          <p:sp>
            <p:nvSpPr>
              <p:cNvPr id="427" name="Oval 5"/>
              <p:cNvSpPr/>
              <p:nvPr/>
            </p:nvSpPr>
            <p:spPr>
              <a:xfrm>
                <a:off x="1396800" y="1736640"/>
                <a:ext cx="218880" cy="259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6"/>
              <p:cNvSpPr/>
              <p:nvPr/>
            </p:nvSpPr>
            <p:spPr>
              <a:xfrm>
                <a:off x="1506600" y="1995840"/>
                <a:ext cx="0" cy="51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7"/>
              <p:cNvSpPr/>
              <p:nvPr/>
            </p:nvSpPr>
            <p:spPr>
              <a:xfrm flipH="1">
                <a:off x="1506240" y="2125800"/>
                <a:ext cx="182520" cy="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8"/>
              <p:cNvSpPr/>
              <p:nvPr/>
            </p:nvSpPr>
            <p:spPr>
              <a:xfrm flipH="1" flipV="1">
                <a:off x="1323720" y="2125800"/>
                <a:ext cx="182520" cy="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9"/>
              <p:cNvSpPr/>
              <p:nvPr/>
            </p:nvSpPr>
            <p:spPr>
              <a:xfrm>
                <a:off x="1506600" y="2471760"/>
                <a:ext cx="145800" cy="34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0"/>
              <p:cNvSpPr/>
              <p:nvPr/>
            </p:nvSpPr>
            <p:spPr>
              <a:xfrm flipH="1">
                <a:off x="1360080" y="2471760"/>
                <a:ext cx="145800" cy="34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Text Box 11"/>
            <p:cNvSpPr/>
            <p:nvPr/>
          </p:nvSpPr>
          <p:spPr>
            <a:xfrm>
              <a:off x="866880" y="2917800"/>
              <a:ext cx="13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2"/>
          <p:cNvGrpSpPr/>
          <p:nvPr/>
        </p:nvGrpSpPr>
        <p:grpSpPr>
          <a:xfrm>
            <a:off x="3335400" y="1774800"/>
            <a:ext cx="1262160" cy="914400"/>
            <a:chOff x="3335400" y="1774800"/>
            <a:chExt cx="1262160" cy="914400"/>
          </a:xfrm>
        </p:grpSpPr>
        <p:sp>
          <p:nvSpPr>
            <p:cNvPr id="435" name="Oval 13"/>
            <p:cNvSpPr/>
            <p:nvPr/>
          </p:nvSpPr>
          <p:spPr>
            <a:xfrm>
              <a:off x="3335400" y="1774800"/>
              <a:ext cx="1262160" cy="63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4"/>
            <p:cNvSpPr/>
            <p:nvPr/>
          </p:nvSpPr>
          <p:spPr>
            <a:xfrm>
              <a:off x="3427560" y="2436840"/>
              <a:ext cx="10047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y Stam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5"/>
          <p:cNvGrpSpPr/>
          <p:nvPr/>
        </p:nvGrpSpPr>
        <p:grpSpPr>
          <a:xfrm>
            <a:off x="1598760" y="1797120"/>
            <a:ext cx="2036160" cy="520560"/>
            <a:chOff x="1598760" y="1797120"/>
            <a:chExt cx="2036160" cy="520560"/>
          </a:xfrm>
        </p:grpSpPr>
        <p:sp>
          <p:nvSpPr>
            <p:cNvPr id="438" name="Text Box 16"/>
            <p:cNvSpPr/>
            <p:nvPr/>
          </p:nvSpPr>
          <p:spPr>
            <a:xfrm>
              <a:off x="2026800" y="1797120"/>
              <a:ext cx="96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s Stam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7"/>
            <p:cNvSpPr/>
            <p:nvPr/>
          </p:nvSpPr>
          <p:spPr>
            <a:xfrm>
              <a:off x="1598760" y="2271600"/>
              <a:ext cx="203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18"/>
          <p:cNvGrpSpPr/>
          <p:nvPr/>
        </p:nvGrpSpPr>
        <p:grpSpPr>
          <a:xfrm>
            <a:off x="4707000" y="1797120"/>
            <a:ext cx="1463760" cy="474480"/>
            <a:chOff x="4707000" y="1797120"/>
            <a:chExt cx="1463760" cy="474480"/>
          </a:xfrm>
        </p:grpSpPr>
        <p:sp>
          <p:nvSpPr>
            <p:cNvPr id="441" name="Text Box 19"/>
            <p:cNvSpPr/>
            <p:nvPr/>
          </p:nvSpPr>
          <p:spPr>
            <a:xfrm>
              <a:off x="5164200" y="1797120"/>
              <a:ext cx="952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ls Stam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20"/>
            <p:cNvSpPr/>
            <p:nvPr/>
          </p:nvSpPr>
          <p:spPr>
            <a:xfrm flipH="1">
              <a:off x="4707000" y="2271600"/>
              <a:ext cx="146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4432320" y="2541600"/>
            <a:ext cx="1095480" cy="2033640"/>
            <a:chOff x="4432320" y="2541600"/>
            <a:chExt cx="1095480" cy="2033640"/>
          </a:xfrm>
        </p:grpSpPr>
        <p:sp>
          <p:nvSpPr>
            <p:cNvPr id="444" name="Text Box 22"/>
            <p:cNvSpPr/>
            <p:nvPr/>
          </p:nvSpPr>
          <p:spPr>
            <a:xfrm>
              <a:off x="4524480" y="3168720"/>
              <a:ext cx="10033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justs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23"/>
            <p:cNvSpPr/>
            <p:nvPr/>
          </p:nvSpPr>
          <p:spPr>
            <a:xfrm>
              <a:off x="4432320" y="2541600"/>
              <a:ext cx="210960" cy="203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24"/>
          <p:cNvGrpSpPr/>
          <p:nvPr/>
        </p:nvGrpSpPr>
        <p:grpSpPr>
          <a:xfrm>
            <a:off x="5163840" y="2638440"/>
            <a:ext cx="1299960" cy="1900080"/>
            <a:chOff x="5163840" y="2638440"/>
            <a:chExt cx="1299960" cy="1900080"/>
          </a:xfrm>
        </p:grpSpPr>
        <p:sp>
          <p:nvSpPr>
            <p:cNvPr id="447" name="Text Box 25"/>
            <p:cNvSpPr/>
            <p:nvPr/>
          </p:nvSpPr>
          <p:spPr>
            <a:xfrm>
              <a:off x="5621400" y="3625920"/>
              <a:ext cx="83808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ges Min/Max Lev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6"/>
            <p:cNvSpPr/>
            <p:nvPr/>
          </p:nvSpPr>
          <p:spPr>
            <a:xfrm flipH="1">
              <a:off x="5163840" y="2638440"/>
              <a:ext cx="1299960" cy="19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27"/>
          <p:cNvGrpSpPr/>
          <p:nvPr/>
        </p:nvGrpSpPr>
        <p:grpSpPr>
          <a:xfrm>
            <a:off x="6426360" y="1827360"/>
            <a:ext cx="1117440" cy="1623960"/>
            <a:chOff x="6426360" y="1827360"/>
            <a:chExt cx="1117440" cy="1623960"/>
          </a:xfrm>
        </p:grpSpPr>
        <p:sp>
          <p:nvSpPr>
            <p:cNvPr id="450" name="Text Box 28"/>
            <p:cNvSpPr/>
            <p:nvPr/>
          </p:nvSpPr>
          <p:spPr>
            <a:xfrm>
              <a:off x="6426360" y="2994120"/>
              <a:ext cx="111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tal Work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29"/>
            <p:cNvGrpSpPr/>
            <p:nvPr/>
          </p:nvGrpSpPr>
          <p:grpSpPr>
            <a:xfrm>
              <a:off x="6513120" y="1827360"/>
              <a:ext cx="365040" cy="1082520"/>
              <a:chOff x="6513120" y="1827360"/>
              <a:chExt cx="365040" cy="1082520"/>
            </a:xfrm>
          </p:grpSpPr>
          <p:sp>
            <p:nvSpPr>
              <p:cNvPr id="452" name="Oval 30"/>
              <p:cNvSpPr/>
              <p:nvPr/>
            </p:nvSpPr>
            <p:spPr>
              <a:xfrm>
                <a:off x="6586200" y="1827360"/>
                <a:ext cx="218880" cy="259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31"/>
              <p:cNvSpPr/>
              <p:nvPr/>
            </p:nvSpPr>
            <p:spPr>
              <a:xfrm>
                <a:off x="6696000" y="2086920"/>
                <a:ext cx="0" cy="51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2"/>
              <p:cNvSpPr/>
              <p:nvPr/>
            </p:nvSpPr>
            <p:spPr>
              <a:xfrm flipH="1">
                <a:off x="6695640" y="2216880"/>
                <a:ext cx="182520" cy="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3"/>
              <p:cNvSpPr/>
              <p:nvPr/>
            </p:nvSpPr>
            <p:spPr>
              <a:xfrm flipH="1" flipV="1">
                <a:off x="6513120" y="2216880"/>
                <a:ext cx="182520" cy="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4"/>
              <p:cNvSpPr/>
              <p:nvPr/>
            </p:nvSpPr>
            <p:spPr>
              <a:xfrm>
                <a:off x="6696000" y="2563560"/>
                <a:ext cx="145800" cy="34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5"/>
              <p:cNvSpPr/>
              <p:nvPr/>
            </p:nvSpPr>
            <p:spPr>
              <a:xfrm flipH="1">
                <a:off x="6549480" y="2563560"/>
                <a:ext cx="145800" cy="34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36"/>
          <p:cNvGrpSpPr/>
          <p:nvPr/>
        </p:nvGrpSpPr>
        <p:grpSpPr>
          <a:xfrm>
            <a:off x="4341960" y="4497480"/>
            <a:ext cx="1371600" cy="1163520"/>
            <a:chOff x="4341960" y="4497480"/>
            <a:chExt cx="1371600" cy="1163520"/>
          </a:xfrm>
        </p:grpSpPr>
        <p:sp>
          <p:nvSpPr>
            <p:cNvPr id="459" name="Text Box 37"/>
            <p:cNvSpPr/>
            <p:nvPr/>
          </p:nvSpPr>
          <p:spPr>
            <a:xfrm>
              <a:off x="4341960" y="5211720"/>
              <a:ext cx="13716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Stamp Inven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8"/>
            <p:cNvSpPr/>
            <p:nvPr/>
          </p:nvSpPr>
          <p:spPr>
            <a:xfrm>
              <a:off x="4341960" y="4497480"/>
              <a:ext cx="1261800" cy="609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Use Case description docu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19120" y="1125360"/>
          <a:ext cx="8229600" cy="547380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 Sta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/Postal Wo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use case describes the process used to buy stamps at the post off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 Com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8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requests sta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8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al Worker checks on availability of sta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8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mps are available and customer pays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8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receives stamps and stock is adjusted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nativ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8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requests sta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8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al Worker checks on availability of sta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8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mps are not available and customer selects alternate stamps or no sta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8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receives stamps and stock is adjusted (if alternate stamps selected) or customer leaves with no stamps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condi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wants to purchase sta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Condi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umption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has enough mon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Text Box 32"/>
          <p:cNvSpPr/>
          <p:nvPr/>
        </p:nvSpPr>
        <p:spPr>
          <a:xfrm>
            <a:off x="2286000" y="57150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Use Case description docu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Text Box 32"/>
          <p:cNvSpPr/>
          <p:nvPr/>
        </p:nvSpPr>
        <p:spPr>
          <a:xfrm>
            <a:off x="2286000" y="57150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609480" y="1066680"/>
          <a:ext cx="7467840" cy="5481720"/>
        </p:xfrm>
        <a:graphic>
          <a:graphicData uri="http://schemas.openxmlformats.org/drawingml/2006/table">
            <a:tbl>
              <a:tblPr/>
              <a:tblGrid>
                <a:gridCol w="1289160"/>
                <a:gridCol w="177840"/>
                <a:gridCol w="2114640"/>
                <a:gridCol w="838080"/>
                <a:gridCol w="3048120"/>
              </a:tblGrid>
              <a:tr h="384120">
                <a:tc grid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 Cas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grid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 Cas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880">
                <a:tc grid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hor/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grid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 of Cre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 grid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ondition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 grid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ccessful Post Cond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880">
                <a:tc grid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 grid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grid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ed Use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 gridSpan="5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w of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 gridSpan="5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 F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880">
                <a:tc gridSpan="3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 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Respon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 gridSpan="5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e l: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 gridSpan="3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 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Respon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.UA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.S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.UA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.S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880">
                <a:tc gridSpan="5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e 2: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 gridSpan="3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 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Respon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.UA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.S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.UA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.S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User 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investigation and information gathered for UI desig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70" name="Picture 8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01064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, tasks, and ac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nd result to be achie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ructured set of related activities that are undertaken in som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ndividual operation or step that needs to be undertaken as part of the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ers, intermediates, and exper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users are neither beginners nor experts; instead, they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medi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1066680" y="2523960"/>
            <a:ext cx="6886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for different experience leve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ll-balanced user interf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cater to the beginner or to the expert, but rather devotes the bulk of its efforts to satisfying all type of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apidly and painlessly get beginners into intermedi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putting obstacles in the way of those intermediates who want to become exp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intermediates happy as they stay firmly in the middle of the skill spect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eginners ne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wants to remain a beg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need some instruction, but not very much, and the process has to be rapid and targe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ers don’t need reference information; they need overview information, such as a guided t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online help is a poor tool fo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ers also rely heavily upon menus to learn and execute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termediates ne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s need access to to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on’t need scope and purpose explained to them because they already know these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s know how to use reference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xperts ne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s want shortcuts to ever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 users constantly, aggressively seek to learn more and to see more connections between their actions and the product’s behavior and re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s appreciate new, powerful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 strategies for beginners, intermediates, and exper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and simpl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feedback and confi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rememb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recognize,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line help with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or no feedback (distra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characteristics relevant to UI desig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 should match 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racter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intended real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I design, users (or user groups) are described in relation to their characteristics. A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f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user (or user group) is created, usually through questionnaire, that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bilities and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/I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48720" cy="11430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user characteristics into UI design requirements: ATM examp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609480" y="1752480"/>
          <a:ext cx="7925040" cy="4313520"/>
        </p:xfrm>
        <a:graphic>
          <a:graphicData uri="http://schemas.openxmlformats.org/drawingml/2006/table">
            <a:tbl>
              <a:tblPr/>
              <a:tblGrid>
                <a:gridCol w="3448080"/>
                <a:gridCol w="44769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characteristic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 UI Requir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range from 12 to 80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 screen height needs to accommodate users of varying heigh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be fully able-bodied or may have some physical limi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 screen height needs to accommodate able-bodied users as well as users with walking sticks or those who use wheelchai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have some physical limitations in relation to he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user inputs should have both visual and auditory feedbac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have some physical limitations in relation to s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een text should be of a reasonably large fo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have some physical limitations in relation to use of h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chscreens, if used, should have target areas that are large enough to loc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chscreens, if used, should be sensitive enough to respond to users with decreased strength in fingers or hand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or no experience of computer/IT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pplication should be easy to use and easy to lear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relationship between goals, tasks and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different techniques for task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needs of users of different experience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ners, intermediates, and exp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Requirement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use case diagrams, Identify functional and non-function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use case di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functional and non-function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goals, tasks, and ac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925040" cy="46195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685800" y="59072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ask are decomposable into subtasks before the action level is re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characteristics for “withdrawing money” from an AT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152280" y="1209600"/>
            <a:ext cx="89568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characteristics for “withdrawing money” from an AT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138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sequen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different task sequences for “sending a let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 should support different possible task sequences, and be flexible to accommod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1833480" y="2104920"/>
            <a:ext cx="5862240" cy="3152520"/>
            <a:chOff x="1833480" y="2104920"/>
            <a:chExt cx="5862240" cy="3152520"/>
          </a:xfrm>
        </p:grpSpPr>
        <p:pic>
          <p:nvPicPr>
            <p:cNvPr id="310" name="Picture 4" descr=""/>
            <p:cNvPicPr/>
            <p:nvPr/>
          </p:nvPicPr>
          <p:blipFill>
            <a:blip r:embed="rId1"/>
            <a:stretch/>
          </p:blipFill>
          <p:spPr>
            <a:xfrm>
              <a:off x="1833480" y="2104920"/>
              <a:ext cx="5862240" cy="31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5"/>
            <p:cNvSpPr/>
            <p:nvPr/>
          </p:nvSpPr>
          <p:spPr>
            <a:xfrm>
              <a:off x="1913400" y="2159280"/>
              <a:ext cx="2466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quence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974840" y="2160720"/>
              <a:ext cx="25509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quence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analy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process of examining the way in which people perform their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volves taking an in-depth look at the tasks and actions a person undertakes, along with the knowledge he needs to perform those tasks and reach a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for task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 that describe the steps required to complete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1:06:32Z</dcterms:created>
  <dc:creator>Roger</dc:creator>
  <dc:description/>
  <dc:language>en-US</dc:language>
  <cp:lastModifiedBy>Dr. Mahmood K. Niazi</cp:lastModifiedBy>
  <dcterms:modified xsi:type="dcterms:W3CDTF">2018-09-18T06:44:20Z</dcterms:modified>
  <cp:revision>131</cp:revision>
  <dc:subject/>
  <dc:title>Slide 1</dc:title>
</cp:coreProperties>
</file>