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52200" y="755640"/>
            <a:ext cx="504180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93360" y="4789440"/>
            <a:ext cx="555948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731B545-ACBB-43FA-BF17-8DEBEECDB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3360" y="4789440"/>
            <a:ext cx="555948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60DDF8D-6072-4E19-B559-9417C8F3E00F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AD12-A510-4831-953F-E355DF8BE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3B6D-5968-475F-859E-FA4B46E11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FF17-74F3-482F-BC96-A2CBBD1DC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29A4-7C31-4FD6-BAD6-E8C09E1BC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743B-6BD8-4B19-A028-0680C04226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97EF-A991-49DF-A16B-4367A58158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ABB4-5EF4-4B89-B5B7-6FEEDD5B3D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7CC4-D4D7-4BE3-9853-DA75453254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607F-F8C3-43AF-AF1F-8C3D66752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E107-28DE-435D-9FF7-5320AD6D7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43E1-75D2-4D1B-801D-4B766D41C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1FCA-CC46-453E-9436-EF4094AEC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D318-76D5-4B49-8D82-3219E94024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7B21-A1D7-4BBD-BB15-60CAD81DC3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8538-C460-4A2A-9BAB-AD80EA84CF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87FF-17D3-4CC1-ADDE-9346FD4144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43FF-07A0-4579-AEC0-67A8F01272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760-2C67-4CE8-8DBD-DE76CEC516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694-B68B-412C-8475-F2C380315F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0FF-45E6-4B1F-A191-F54387A072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21C-CDBE-462D-97F0-8986E5FD6F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D22-C188-4E35-A195-BE6C3CCCD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AF71-16E6-4F6D-9F99-E0104873AC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98D-52DE-4EC9-8742-6EC30FC96F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65D-ABC7-4641-B7D2-EB5BA0F034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8BA-196C-464B-9AA4-EE1087A297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9DE-BD56-4B47-A83D-5CF52865D0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5E0-71DF-429F-8B3C-12A625B9F1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666-E6EE-4783-8F9B-520279DBAC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0A4-ABF2-4600-B80B-34EB4F77B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335D-D748-473D-A23A-2FFD89D9B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A63A-4FBA-480D-9511-B467A16C6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427E-9A52-45C1-9FCD-2B3ADDF84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2EC2-AD6A-42BD-8404-839E55B9E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7184-EE13-498C-90BB-92885D7B5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9C12-DF42-4F60-9188-1BF13C9BC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1FF3-483E-427E-9107-039DBAEE3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4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3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60" name="Rectangle 2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DC23-4EF3-4750-80D2-E28AD9BA6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110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19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traight Connector 22"/>
          <p:cNvSpPr/>
          <p:nvPr/>
        </p:nvSpPr>
        <p:spPr>
          <a:xfrm>
            <a:off x="304920" y="990720"/>
            <a:ext cx="8458200" cy="1440"/>
          </a:xfrm>
          <a:prstGeom prst="line">
            <a:avLst/>
          </a:prstGeom>
          <a:ln w="936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1862-B611-4239-A0D4-4E392DD95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8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22B5-8E2C-4E44-899E-4295E51A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Chapter 1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ability of Interactiv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 Mahmood Nia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7D43-7252-42FF-A78F-6E47DC97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Requirements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certain the user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at tasks and subtasks must be carried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tasks which are only performed occasionally.  Common tasks are easy to identif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must match need or else users will reject or underutilize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excessive functionality is also a danger because the complexity make implementation, learning and usage mor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741-4297-470F-A411-2BE1E9031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Requirements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el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must function as spec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data displayed must reflect the actual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should be available as often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must not introduce err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user's privacy and data security by protecting against unwarranted access and destruction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5F46-0C1A-4B15-B411-7F22E4EA3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Requirements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standardization, integration, consistency, and por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ndard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se pre-existing industry standards where they exist to aid learning and avoid err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pple, and Windows interfac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product should work with different software tools and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is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mmon action sequences, terms, units, colors, etc. within the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ility across different product ver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llow for the user to convert data and to share user interfaces across multiple software and hardware environ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5D8B-8880-4D7C-A4C7-37A25BD6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Requirements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projects on time and within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or over budget products can create serious pressure within a company and potentially mean dissatisfied customers and loss of business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0C90-972D-4A4B-96E0-F74E93A0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Requirements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projects on time and within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been reported that on average the percentage of software projects completed on-time and within budget improved from 16.2% in 1995 (Standish-Group, 1995) to 34% in 2003 (Standish-Group, 200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this improvement, nearly two-thirds of projects were still not successful in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D599-8FC9-43EB-B78B-284C29DF3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Requirements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projects on time and within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udy conducted by a group of Fellows of the Royal Academy of Engineering and British Computer Society, shows that despite spending 22.6 billions pounds on IT projects in UK during 2003/2004, significant numbers of projects still fail to deliver key benefits on time and to target cost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7BF0-8879-4FB3-B450-57CE877D3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Fact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ix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t for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upport tasks what user w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arn for various groups of us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Effici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uick tasks for frequent us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Rememb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member tasks for occasional us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ive Satisf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ow user will satisfy overal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understand what system or each individual module doe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C552-429A-4655-8317-B8FA37C6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Tas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are developing a software system for the hospital. How will you implement the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t for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upport tasks what user w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Effici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uick tasks for frequent us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ith your colleag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A533-DB75-46C0-9438-3FCDF6922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Measu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usability measures lead more directly to practical eval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lea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does it take for typical members of the community to learn actions relevant to a set of task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ed of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does it take to carry out the benchmark task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te of errors by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and what kinds of errors are made during benchmark task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tention over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 users maintain their knowledge after an hour, a day, or a week? Frequency of use and ease of learning help make for better user reten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jective satisf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did users like using various aspects of the interface? The answer can be ascertained by interviews, free-form comments and satisfaction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52AA-B21B-46B7-BD04-D0CC34DB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Measu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s (an exchange that occurs as a compromise) in design options frequently occur.  Changes to the interface in a new version may create consistency problems with the previous version, but the changes may improve the interface in other ways or introduce new needed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lternatives can be evaluated by designers and users via mockups or high-fidelity (quality) proto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applications, subjective satisfaction may be the key determinant of success; in others, short learning time may be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manuals and the online help can be written before the implementation to provide another review on the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24D8-239F-4245-8F84-EB6330428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Goals and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Mot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C261-9E30-4B9A-9FC3-C7CD47E0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Motiv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est in interface usability arises by looking at the poorly designed interfaces and the benefits of elegant interfaces. Interfaces can be seen in different dom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-critical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traffic control, nuclear reactors, police &amp; fire dispatch systems, military operations, and medic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sts, reliability and effectiveness are exp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y training periods are acceptable despite the financial cost to provide error-free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satisfaction is less an issue due to well motivated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E123-D871-473F-9CDC-ABA37A3FD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Motiv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and commercial 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, insurance, order entry, inventory management, reservation, billing, and point-of-sales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learning is important to reduce trai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performance is important because of the number of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satisfaction is fairl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tion is obtained by frequen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D857-FAA7-4C1C-8C4F-1419CECF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Motiv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, home, and entertainment ap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processing, electronic mail, computer conferencing and video game systems, educational packages, search engines, mobile devic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learning, low error rates, and subjective satisfaction are very important because use is often discretionary and competition is int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equent use of some applications means interfaces must be intuitive (natural), and comprehensible online help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functionality is difficult because the population has a wide range of both novice and exper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vel-structured design is one approach (e.g., search engi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88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cause the need for low co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1D5-4841-40F7-923E-8620FA89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Motiv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ory, creative, and cooperative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atory: Web browsing, search engines, simulation and business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e: Artist toolkits, architectural design, software development, music composition, and scientific model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: enable two or more people to work together, even if they are separated by time and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ystems are difficult to design and evaluate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may be knowledgeable in task domain but novices in the underlying computer concep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uter should "vanish" so that the user can be absorbed in their task 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4842-096E-457D-9A11-E85961784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Motiv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techn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, health support, identity verification, crime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, privacy, and security ar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learning for novices and feedback to build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ors need tools to detect unusual patterns of usage and review procedures at differe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ACEE-9CEC-44F7-A532-BBF35365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Usabi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versity of human abilities, background, motivations, personalities, cultures, and work styles challenges interface desig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physical, intellectual and personality differences between users is vital for getting participation by broadest set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accommodating the needs of one group benefits other group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E391-8164-4E6B-B0D3-3A6B9384D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Usabi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and internationa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modating cultural and international differences will increases the market share of interactiv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to-right versus right-to-left versus vertical input and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and time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 and currency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s and meas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 numbers and addr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-security, national identification, and passport nu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ization and punc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ng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ons, buttons, col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iquette  (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ules for correct or polite behaviour between 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policies, tone, for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finger pose different meanings.gif"/>
          <p:cNvPicPr/>
          <p:nvPr/>
        </p:nvPicPr>
        <p:blipFill>
          <a:blip r:embed="rId1"/>
          <a:stretch/>
        </p:blipFill>
        <p:spPr>
          <a:xfrm>
            <a:off x="609480" y="1295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Usabi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6545-D78B-4D3B-A697-3CFF3F219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Usabi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with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must plan early to accommodate users with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n-impa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ing-impa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-impa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derl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the elderly is fairly easy; designers should allow for variability within their applications via settings for sound, color, brightness, font siz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lder people can use the technology easily, we have more opportunities of knowing about their experi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86F-59B4-4CD0-8C8E-17F428F8D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Usabi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need attention to their limi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not always do mouse-dragging, double-clicking or pointing on small targ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 instructions and error messages might not be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 control over dangerou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ing hardware/software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interaction on high-speed (broadband) and slower (dial-up)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web services from large displays and small mobil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or automatic conversion to multiple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491B-113F-4AFA-BBAB-F06DCE422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Usability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ease of use and learnability of a human-made object such as software application, website, book, tool, process, or anything a human interacts wi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ing intended users to accomplish their tasks in the best way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ll users can use the system’s function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A50C-785A-455F-B6EA-3E03AAC2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Goals and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Mot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19BE-2D0B-402A-86D6-B05EC52C4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usability important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usability can cost time and effort, and can greatly determine the success or failure of a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hoice, people will tend to buy systems that are more user-frien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E2A6-3329-4870-AF68-FF35EA79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usability important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user's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can make the difference between performing a task accurately and completely or not, and enjoying the process or being frustr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developer's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s important because it can mean the difference between the success or failure of a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management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with poor usability can reduce the productivity of the workforce to a level of performance worse than without the system. Also increase cost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ll cases, lack of usability can cost time and effort, and can greatly determine the success or failure of a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hoice, people will tend to buy systems that are more user-frien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AE1D-A0F9-4324-BF11-98B553CB8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usability important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192960" indent="-15948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e processes: tax retur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: a doctor’s diagnosis an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training: encyclopedias,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sure: music and sport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generated content: social networking web sites, photo and video share sites, user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use: financial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es and professions: web resources for journals, and career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use: entertainment, games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ization: language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can make the difference between performing a task accurately and completely or not, and enjoying the process or being frustr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developer's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s important because it can mean the difference between the success or failure of a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management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15948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with poor usability can reduce the productivity of the workforce to a level of performance worse than without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ll cases, lack of usability can cost time and effort, and can greatly determine the success or failure of a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hoice, people will tend to buy systems that are more user-frien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6B11-BC4B-4878-9AD3-9165604CF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293840"/>
            <a:ext cx="8381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designer wants to build high-quality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eans features such as usability, usefulness, no errors and universality (can be used by different users from different cul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want “user-friendly” interfaces, but what do they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s for “user-friendly” in Microsoft 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sy to use; accessible; comprehensible; intelligible; available; and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are st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vague, so a systematic  and measurable process is necessary to develop usable systems for specific users in a specific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- No of times user asks fo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B529-2210-4E6D-AA1E-4BB82362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93840"/>
            <a:ext cx="8381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can promote attention to user-interface design by careful planning the whole desig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propose multiple design alternatives for consideration. This will help to chose the best design which is user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interface building tools enable rapi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user-interface designs can identify gaps in the design and can assist in improving their 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4B29-9883-4BE8-8415-E51AC0472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requires project management and careful attention to requirements analysis and testing for clearly defin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for requirement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rtain (to identify) the users’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proper rel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ppropriate standardization, integration, consistency, and por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projects on schedule and within bu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1:06:32Z</dcterms:created>
  <dc:creator>Roger</dc:creator>
  <dc:description/>
  <dc:language>en-US</dc:language>
  <cp:lastModifiedBy>niazi</cp:lastModifiedBy>
  <dcterms:modified xsi:type="dcterms:W3CDTF">2017-09-20T08:36:34Z</dcterms:modified>
  <cp:revision>126</cp:revision>
  <dc:subject/>
  <dc:title>Slide 1</dc:title>
</cp:coreProperties>
</file>