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52200" y="755640"/>
            <a:ext cx="5041800" cy="37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93360" y="4789440"/>
            <a:ext cx="5559480" cy="4538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FE03A1E-7ADF-4C0E-B4E1-971EFADFBC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C4CC7CE-AE2A-4334-87BB-91E20B225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54000" y="755640"/>
            <a:ext cx="5043600" cy="3782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5200" y="4789440"/>
            <a:ext cx="509580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27FFF96-C6D1-4295-8CE2-AB14B0EB5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54000" y="755640"/>
            <a:ext cx="5043600" cy="3782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25200" y="4789440"/>
            <a:ext cx="509580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47368FF-0FF7-43A3-82C4-D443537E0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54000" y="755640"/>
            <a:ext cx="5043600" cy="3782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5200" y="4789440"/>
            <a:ext cx="509580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7B63-3D8A-43CE-A1D4-54C1DB1BA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AE4C-78C8-438B-9AC0-495E9871D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A047-002C-4358-B21D-8FE1A29DC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A93F-E611-4E01-99D4-9D5DC452F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6DD4-1B6F-431C-89A1-9D32A69A00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E444-0DFF-4FF0-882D-AEECDB0393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1241-4DA5-48EA-87B5-092410FCA3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59CC-ECC9-4CD8-8A21-B22D8E5423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E1FE-DD7C-46EF-9D80-03C896C4D4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BE48-B49E-4808-87CE-37102CA8E7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99AC0-48C9-461B-AE94-4FA0E3E2D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A0F5-6EBA-4CAD-A20B-3991CAB83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0D70-D19E-488D-B500-53437EDE9A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7FBD8-DF30-4CE8-939E-F9359E6619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4B666-68AB-43B8-AEDC-BDB59E8313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C516-C346-4ED0-8B28-93250BB61C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ABB4-C70B-46D6-B8D5-C79B2CAAA4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5D5-6C6D-4307-81B4-1F2C1D7689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F80-19BD-4D7C-8123-7DEAF7D43F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C2F-A5AF-4C2E-8B5B-FFC946307F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5EA-C0AC-4EA8-B6F6-DF2563E726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699-C75F-44EB-9396-0110E98A35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1D3F-CF73-4234-85D0-F9314C20AF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64D-1DB9-4E86-9899-EC1B6AC641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DDD-CD5B-42F1-811A-288D2B6616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EA7-B65D-4403-8321-426E03A470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8F4-A6BA-4792-BDEB-64855BA98E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50A-2714-4C63-847E-CC9A6F51FE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185-2D28-4D18-A80F-FBF03F0273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D40-0E2B-4EB8-9AFE-6999176A6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1AE6-FE67-4862-A04E-DFD4DBA45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BAB7-18C9-48F2-81C7-79CC80DB2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57AB-E51C-4272-8FC2-941687B9F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60EA-81D1-4724-8262-907CEB01C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6655-FCDC-44FE-AE1B-CF805FE4D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4408-CF91-4751-B4CE-08FCA977F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A88B-D6E1-4E12-ACA0-4C29C3B55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40"/>
          <p:cNvGrpSpPr/>
          <p:nvPr/>
        </p:nvGrpSpPr>
        <p:grpSpPr>
          <a:xfrm>
            <a:off x="0" y="0"/>
            <a:ext cx="365040" cy="1066680"/>
            <a:chOff x="0" y="0"/>
            <a:chExt cx="365040" cy="1066680"/>
          </a:xfrm>
        </p:grpSpPr>
        <p:sp>
          <p:nvSpPr>
            <p:cNvPr id="4" name="Rectangle 19"/>
            <p:cNvSpPr/>
            <p:nvPr/>
          </p:nvSpPr>
          <p:spPr>
            <a:xfrm>
              <a:off x="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20"/>
            <p:cNvSpPr/>
            <p:nvPr/>
          </p:nvSpPr>
          <p:spPr>
            <a:xfrm>
              <a:off x="18108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1"/>
            <p:cNvSpPr/>
            <p:nvPr/>
          </p:nvSpPr>
          <p:spPr>
            <a:xfrm>
              <a:off x="27144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3"/>
            <p:cNvSpPr/>
            <p:nvPr/>
          </p:nvSpPr>
          <p:spPr>
            <a:xfrm>
              <a:off x="27144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4"/>
            <p:cNvSpPr/>
            <p:nvPr/>
          </p:nvSpPr>
          <p:spPr>
            <a:xfrm>
              <a:off x="9036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26"/>
            <p:cNvSpPr/>
            <p:nvPr/>
          </p:nvSpPr>
          <p:spPr>
            <a:xfrm>
              <a:off x="18108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27"/>
            <p:cNvSpPr/>
            <p:nvPr/>
          </p:nvSpPr>
          <p:spPr>
            <a:xfrm>
              <a:off x="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28"/>
            <p:cNvSpPr/>
            <p:nvPr/>
          </p:nvSpPr>
          <p:spPr>
            <a:xfrm>
              <a:off x="9036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51"/>
          <p:cNvGrpSpPr/>
          <p:nvPr/>
        </p:nvGrpSpPr>
        <p:grpSpPr>
          <a:xfrm>
            <a:off x="8778960" y="0"/>
            <a:ext cx="365040" cy="1066680"/>
            <a:chOff x="8778960" y="0"/>
            <a:chExt cx="365040" cy="1066680"/>
          </a:xfrm>
        </p:grpSpPr>
        <p:sp>
          <p:nvSpPr>
            <p:cNvPr id="13" name="Rectangle 52"/>
            <p:cNvSpPr/>
            <p:nvPr/>
          </p:nvSpPr>
          <p:spPr>
            <a:xfrm>
              <a:off x="877896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53"/>
            <p:cNvSpPr/>
            <p:nvPr/>
          </p:nvSpPr>
          <p:spPr>
            <a:xfrm>
              <a:off x="896004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54"/>
            <p:cNvSpPr/>
            <p:nvPr/>
          </p:nvSpPr>
          <p:spPr>
            <a:xfrm>
              <a:off x="905040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55"/>
            <p:cNvSpPr/>
            <p:nvPr/>
          </p:nvSpPr>
          <p:spPr>
            <a:xfrm>
              <a:off x="905040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56"/>
            <p:cNvSpPr/>
            <p:nvPr/>
          </p:nvSpPr>
          <p:spPr>
            <a:xfrm>
              <a:off x="886932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57"/>
            <p:cNvSpPr/>
            <p:nvPr/>
          </p:nvSpPr>
          <p:spPr>
            <a:xfrm>
              <a:off x="896004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58"/>
            <p:cNvSpPr/>
            <p:nvPr/>
          </p:nvSpPr>
          <p:spPr>
            <a:xfrm>
              <a:off x="877896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59"/>
            <p:cNvSpPr/>
            <p:nvPr/>
          </p:nvSpPr>
          <p:spPr>
            <a:xfrm>
              <a:off x="886932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60" name="Rectangle 2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2"/>
          </p:nvPr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63FB-3651-4237-9A02-77C09AD74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0"/>
          <p:cNvGrpSpPr/>
          <p:nvPr/>
        </p:nvGrpSpPr>
        <p:grpSpPr>
          <a:xfrm>
            <a:off x="0" y="0"/>
            <a:ext cx="365040" cy="1066680"/>
            <a:chOff x="0" y="0"/>
            <a:chExt cx="365040" cy="1066680"/>
          </a:xfrm>
        </p:grpSpPr>
        <p:sp>
          <p:nvSpPr>
            <p:cNvPr id="110" name="Rectangle 19"/>
            <p:cNvSpPr/>
            <p:nvPr/>
          </p:nvSpPr>
          <p:spPr>
            <a:xfrm>
              <a:off x="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0"/>
            <p:cNvSpPr/>
            <p:nvPr/>
          </p:nvSpPr>
          <p:spPr>
            <a:xfrm>
              <a:off x="18108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1"/>
            <p:cNvSpPr/>
            <p:nvPr/>
          </p:nvSpPr>
          <p:spPr>
            <a:xfrm>
              <a:off x="27144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27144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4"/>
            <p:cNvSpPr/>
            <p:nvPr/>
          </p:nvSpPr>
          <p:spPr>
            <a:xfrm>
              <a:off x="9036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6"/>
            <p:cNvSpPr/>
            <p:nvPr/>
          </p:nvSpPr>
          <p:spPr>
            <a:xfrm>
              <a:off x="18108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9036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51"/>
          <p:cNvGrpSpPr/>
          <p:nvPr/>
        </p:nvGrpSpPr>
        <p:grpSpPr>
          <a:xfrm>
            <a:off x="8778960" y="0"/>
            <a:ext cx="365040" cy="1066680"/>
            <a:chOff x="8778960" y="0"/>
            <a:chExt cx="365040" cy="1066680"/>
          </a:xfrm>
        </p:grpSpPr>
        <p:sp>
          <p:nvSpPr>
            <p:cNvPr id="119" name="Rectangle 52"/>
            <p:cNvSpPr/>
            <p:nvPr/>
          </p:nvSpPr>
          <p:spPr>
            <a:xfrm>
              <a:off x="877896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53"/>
            <p:cNvSpPr/>
            <p:nvPr/>
          </p:nvSpPr>
          <p:spPr>
            <a:xfrm>
              <a:off x="896004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4"/>
            <p:cNvSpPr/>
            <p:nvPr/>
          </p:nvSpPr>
          <p:spPr>
            <a:xfrm>
              <a:off x="905040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5"/>
            <p:cNvSpPr/>
            <p:nvPr/>
          </p:nvSpPr>
          <p:spPr>
            <a:xfrm>
              <a:off x="905040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6"/>
            <p:cNvSpPr/>
            <p:nvPr/>
          </p:nvSpPr>
          <p:spPr>
            <a:xfrm>
              <a:off x="886932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7"/>
            <p:cNvSpPr/>
            <p:nvPr/>
          </p:nvSpPr>
          <p:spPr>
            <a:xfrm>
              <a:off x="896004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8"/>
            <p:cNvSpPr/>
            <p:nvPr/>
          </p:nvSpPr>
          <p:spPr>
            <a:xfrm>
              <a:off x="877896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59"/>
            <p:cNvSpPr/>
            <p:nvPr/>
          </p:nvSpPr>
          <p:spPr>
            <a:xfrm>
              <a:off x="886932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Straight Connector 22"/>
          <p:cNvSpPr/>
          <p:nvPr/>
        </p:nvSpPr>
        <p:spPr>
          <a:xfrm>
            <a:off x="304920" y="990720"/>
            <a:ext cx="8458200" cy="1440"/>
          </a:xfrm>
          <a:prstGeom prst="line">
            <a:avLst/>
          </a:prstGeom>
          <a:ln w="9360">
            <a:solidFill>
              <a:srgbClr val="939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3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C139-25BA-4057-BDFC-BA5DAD446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8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840D-E296-4748-9BF3-E44526096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Prototyping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 Mahmood Niaz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6E96-AAD8-4ADA-9303-A860C2588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you can learn from a paper prototyp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users understand i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do what is needed? Missing featur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ion &amp; task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rs find their way aroun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nformation preconditions me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users understand label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needs to go on the scre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nteraction style to us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BBE6-3E51-41D5-9BF7-35FED738C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you can’t learn from a paper prototyp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: color, font, whitespace,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9338-9CBC-42F5-92AD-D9DDF031F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antages and disadvantages of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w-fidelity prototy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447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6441-775C-4D5F-9C64-D307DC0C5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gh-fidelity prototy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functional version of the system that users can interact wi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 testing can be underta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E842-278C-4F3F-A5BA-BB221F3F3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antages and disadvantages of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gh-fidelity prototy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4834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C196-BD5B-491B-82A7-A8FEE0DCA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the purposes of prototy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the difference between low and high fidelity proto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the advantages and disadvantages of low and high fidelity proto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37CB-227B-4345-AF4D-753E273DE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the purposes of prototy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the difference between low and high fidelity proto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the advantages and disadvantages of low and high fidelity proto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2404-530F-4E7D-9970-04574ECF9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rposes of prototyp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totype is an initial version of a system which may be used for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s are valuable for requirements elicitation because users can experiment with the system and point out its strengths and weak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06BB-F39A-45CD-8209-EEEFCCAE1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rposes of prototyp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eck the feasibility of ideas with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eck the usefulness of an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users to contribute to the design of an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users to test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validate and negotiate the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eriment with altern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ototyping benefi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0440" indent="-46044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totype allows users to experiment and discover what they really need to support thei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es feasibility and usefulness before high development costs are in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sential for developing the ‘look and feel’ of a us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used for system testing and the development of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ces a detailed study of the requirements which reveals inconsistencies and o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ototyping costs and probl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ning costs - prototype development may require the use of special purpos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costs - depend on the type of prototype being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ended development schedules - developing a prototype may extend the schedule although the prototyping time may be recovered because rework is avo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ypes of prototyp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pid development of prototypes is essential so that they are available early in the elicit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w-away proto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olutionary (Executable) proto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08EA-804B-4676-914C-18C50890B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totype fidel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fidelity prot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its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paper prot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fidelity prot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 finished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software prot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463F-4F54-4D78-9DEB-E9EDF5282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per prototyp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paper mock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es of screen appear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er pieces show windows, menus, dialog box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 is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ing with a finger = mouse cl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= ty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 simulates the computers ope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ting down &amp; picking up pie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responses on the “scre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ing effects that are hard to show on pa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idelity in look &amp;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idelity in depth (person simulates the back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01:06:32Z</dcterms:created>
  <dc:creator>Roger</dc:creator>
  <dc:description/>
  <dc:language>en-US</dc:language>
  <cp:lastModifiedBy>Dr. Mahmood K. Niazi</cp:lastModifiedBy>
  <dcterms:modified xsi:type="dcterms:W3CDTF">2018-11-20T06:23:43Z</dcterms:modified>
  <cp:revision>124</cp:revision>
  <dc:subject/>
  <dc:title>Slide 1</dc:title>
</cp:coreProperties>
</file>