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60F9-98B7-4438-B5A3-6AE14A06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E781-9874-4F4D-A191-1D9AF634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ine directories are used to store email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ADB3-5198-48E9-A185-52EE04755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net newsgrou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repository usually within the Usenet system, for messages posted from many users in different locations. The term may be confusing to some, because it is usually a discussion group. Newsgroups are technically distinct from, but functionally similar to, discussion forums on the World Wide Web. Newsreader software is used to read news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872B-EBD2-463E-971D-2FBCC912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DB4-B1C7-4907-B453-67941B33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mpact on offline communities: The internet users withdraw from other social cont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96B5-61F8-4B96-8D04-2029460E8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list server (mailing list server) is a program that handles subscription requests for a mailing list and distributes new messages, newsletters, or other postings from the list's members to the entire list of subscribers as they occur or are schedu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7E6C-4732-442A-9538-1491480BA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1B5F-2026-4146-B73A-93EC9C67A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47DC-94AA-4C42-BD8B-053B47C5E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BC10-DCA4-471C-8AE5-BA4F76A09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BFDA-E814-4585-A913-68A8D4BDB0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E75F-A5F4-4FFB-A516-23842D8999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3C6E-0FFD-4D07-9AEB-4613E91DD8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37F4-0E14-4ECD-9F87-A9EAF1E7A3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2D9B-21AB-4BEE-BBCB-7DAF7133BB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273C-1BEE-49D7-B222-B7AA011119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4A1B-50C6-45E0-81A4-5900A5B96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6983-52D2-4C13-945C-5714DCD2A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5EE4-220B-423F-B3BA-8895D9BD5F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9137-7CB6-4329-8C28-6B5F371992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E0BE-B339-4039-9EC9-A9A3E8E828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6D48-4D72-4235-9720-AA56CB6503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9499-7552-4204-8A7A-0EE863792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ABC2-2567-4EBD-8DF1-76528DC0F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4A90-562F-4BD5-A3FE-58A4E7D0E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B4A9-9248-422D-8A85-51B13C3D0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6976-563D-41D4-A9C8-469FE5D68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D81C-73D2-42EE-A749-FE47F56B1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90EB-58E7-4116-AC7D-286107827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1B26-754B-4D79-8871-C7679F69F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DD1B-ABFE-4417-BFA6-9CBD6ED0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0"/>
          <p:cNvGrpSpPr/>
          <p:nvPr/>
        </p:nvGrpSpPr>
        <p:grpSpPr>
          <a:xfrm>
            <a:off x="0" y="0"/>
            <a:ext cx="365040" cy="1066680"/>
            <a:chOff x="0" y="0"/>
            <a:chExt cx="365040" cy="1066680"/>
          </a:xfrm>
        </p:grpSpPr>
        <p:sp>
          <p:nvSpPr>
            <p:cNvPr id="4" name="Rectangle 19"/>
            <p:cNvSpPr/>
            <p:nvPr/>
          </p:nvSpPr>
          <p:spPr>
            <a:xfrm>
              <a:off x="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20"/>
            <p:cNvSpPr/>
            <p:nvPr/>
          </p:nvSpPr>
          <p:spPr>
            <a:xfrm>
              <a:off x="18108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1"/>
            <p:cNvSpPr/>
            <p:nvPr/>
          </p:nvSpPr>
          <p:spPr>
            <a:xfrm>
              <a:off x="27144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3"/>
            <p:cNvSpPr/>
            <p:nvPr/>
          </p:nvSpPr>
          <p:spPr>
            <a:xfrm>
              <a:off x="27144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4"/>
            <p:cNvSpPr/>
            <p:nvPr/>
          </p:nvSpPr>
          <p:spPr>
            <a:xfrm>
              <a:off x="9036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26"/>
            <p:cNvSpPr/>
            <p:nvPr/>
          </p:nvSpPr>
          <p:spPr>
            <a:xfrm>
              <a:off x="18108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27"/>
            <p:cNvSpPr/>
            <p:nvPr/>
          </p:nvSpPr>
          <p:spPr>
            <a:xfrm>
              <a:off x="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28"/>
            <p:cNvSpPr/>
            <p:nvPr/>
          </p:nvSpPr>
          <p:spPr>
            <a:xfrm>
              <a:off x="9036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1"/>
          <p:cNvGrpSpPr/>
          <p:nvPr/>
        </p:nvGrpSpPr>
        <p:grpSpPr>
          <a:xfrm>
            <a:off x="8778960" y="0"/>
            <a:ext cx="365040" cy="1066680"/>
            <a:chOff x="8778960" y="0"/>
            <a:chExt cx="365040" cy="1066680"/>
          </a:xfrm>
        </p:grpSpPr>
        <p:sp>
          <p:nvSpPr>
            <p:cNvPr id="13" name="Rectangle 52"/>
            <p:cNvSpPr/>
            <p:nvPr/>
          </p:nvSpPr>
          <p:spPr>
            <a:xfrm>
              <a:off x="8778960" y="850320"/>
              <a:ext cx="90360" cy="21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3"/>
            <p:cNvSpPr/>
            <p:nvPr/>
          </p:nvSpPr>
          <p:spPr>
            <a:xfrm>
              <a:off x="8960040" y="211680"/>
              <a:ext cx="91800" cy="22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54"/>
            <p:cNvSpPr/>
            <p:nvPr/>
          </p:nvSpPr>
          <p:spPr>
            <a:xfrm>
              <a:off x="9050400" y="0"/>
              <a:ext cx="93600" cy="214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55"/>
            <p:cNvSpPr/>
            <p:nvPr/>
          </p:nvSpPr>
          <p:spPr>
            <a:xfrm>
              <a:off x="9050400" y="211680"/>
              <a:ext cx="93600" cy="22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56"/>
            <p:cNvSpPr/>
            <p:nvPr/>
          </p:nvSpPr>
          <p:spPr>
            <a:xfrm>
              <a:off x="8869320" y="425160"/>
              <a:ext cx="92160" cy="213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7"/>
            <p:cNvSpPr/>
            <p:nvPr/>
          </p:nvSpPr>
          <p:spPr>
            <a:xfrm>
              <a:off x="8960040" y="425160"/>
              <a:ext cx="91800" cy="213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8"/>
            <p:cNvSpPr/>
            <p:nvPr/>
          </p:nvSpPr>
          <p:spPr>
            <a:xfrm>
              <a:off x="8778960" y="635400"/>
              <a:ext cx="90360" cy="220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59"/>
            <p:cNvSpPr/>
            <p:nvPr/>
          </p:nvSpPr>
          <p:spPr>
            <a:xfrm>
              <a:off x="8869320" y="635400"/>
              <a:ext cx="92160" cy="220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60" name="Rectangle 2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9CF9-758B-44F7-A456-F104ED121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25EB-08CF-4B2C-884B-732FF1839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74320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Collaboration and Social Media Participation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82440" y="4176720"/>
            <a:ext cx="71118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. Mahmood Niaz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F810-0E4C-4E79-B6FF-CEF6242CFD4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FF9C-D8C4-464A-8429-C17804CA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Collabor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1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l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ovel organizational forms  for groups of scientists or other professionals to work together across time and space, possibly sharing expensive equipment such as telescopes or orbiting sensor platforms (</a:t>
            </a:r>
            <a:r>
              <a:rPr b="0" lang="en-GB" sz="2000" spc="-1" strike="noStrike">
                <a:solidFill>
                  <a:srgbClr val="00007d"/>
                </a:solidFill>
                <a:latin typeface="Arial"/>
                <a:ea typeface="MS PGothic"/>
              </a:rPr>
              <a:t>which are designed to produce high resolution imaging of earths et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ele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able remote participants to have experiences as if  working physically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DA75-9DD5-435F-81F4-BB637A221229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33FE-3A4F-4B58-B583-D7384B74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S PGothic"/>
              </a:rPr>
              <a:t>Time/space matrix model of group-supported wor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929E-4BC8-494E-BCC2-D31C2435A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Asynchronous Distributed Interfaces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Different Place, Different Ti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24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lectronic m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an be too loosely structu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nsient (br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filte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archiv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ailing li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discussion grou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ypically text-only, but increasingly includes other structured o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graph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anim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de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Fig 10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73212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FE4A-9BAC-499E-BAF3-D302ADA1C87E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646D-0A39-4AB4-AF25-43854110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Asynchronous distributed interfaces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Different place, different time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048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lectronic mail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mail on mobi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nline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eb services with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.g. Hotmail, and Yahoo!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7162920" y="6397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-</a:t>
            </a:r>
            <a:fld id="{EDE35306-9A74-489A-8D3F-CF1CB754B3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581280" y="3573360"/>
            <a:ext cx="4876920" cy="3056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1373040" cy="2062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0"/>
          <p:cNvSpPr/>
          <p:nvPr/>
        </p:nvSpPr>
        <p:spPr>
          <a:xfrm>
            <a:off x="6629400" y="15238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-mail message on an i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2"/>
          <p:cNvCxnSpPr/>
          <p:nvPr/>
        </p:nvCxnSpPr>
        <p:spPr>
          <a:xfrm flipH="1">
            <a:off x="5942880" y="1827720"/>
            <a:ext cx="686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TextBox 13"/>
          <p:cNvSpPr/>
          <p:nvPr/>
        </p:nvSpPr>
        <p:spPr>
          <a:xfrm>
            <a:off x="6781680" y="2743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oogle’s web-based email (Gma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14"/>
          <p:cNvCxnSpPr/>
          <p:nvPr/>
        </p:nvCxnSpPr>
        <p:spPr>
          <a:xfrm flipH="1">
            <a:off x="6476760" y="297180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EDC7-E6E2-4E9E-A2FE-40D76B3D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Asynchronous Distributed Interfaces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Different Place, Different Time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ewsgroups, listservers, discussion boards, conferences, blogs, and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cused electronic discussions by group of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ist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dividual must subscribe to receive e-mail no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y be moderated by a lea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y be mail refle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sers can get flooded with listserv e-m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erver machine keeps searchable archive or past notes and subscriber 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iscussion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essages can be re-ordered ch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ach message a short one-line heading and a long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essage can contain questions and answers, an offer to buy or 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03DA-7B77-41C9-B80F-3AD7AAFDF747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97B0-D0D4-4373-A43A-E4B621863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Asynchronous Distributed Interfaces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Different Place, Different Time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ewsgroups, listservers, discussion boards, conferences, blogs, and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nline confer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hile groups can carry out their business using newsgroups, listservers, and discussion boards, additional features are often provided in online conferencing 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oting and discussion on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nline directories of us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nline directories of docu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eb-logs/blogs and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logs: Personal diaries that invite outside commenting. Blogs can focus on any topic; politics, music, t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ikis: Group editing spaces/ web pages, usually for coordination. Wikis are popular with projec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nline magazines and news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D334-88F8-4A4D-8D99-801F5DD290E0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4DEE-B200-4148-95AD-CB2791DD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Asynchronous Distributed Interfaces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Different Place, Different Time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1426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Online and networked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Online communities are topically focused and geographically dispers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hey exists for patient suppor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positive side is the facilitation of communication among like-minded people who have shared inte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mpact on offline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mmunity policies &amp; freedom of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etwork communities can be controvers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ackers, hate groups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istance education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444-12C5-4DD1-8DD9-9F8A528F7C60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E920-4558-478E-ABD7-90C33CF3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Synchronous distributed interface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Different place, same ti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ynchronous distributed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roup ed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hared screens for customer ass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ive demonstrations simultaneously at multiple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ow sharing of information for various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teractive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E51B-93F9-4C87-A8C8-7C77FB02DC1D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267B-B1F3-42C1-B0D3-8D020D858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Synchronous distributed interface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Different place, same time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hat, instant messaging, and text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HAT, and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UDS (multiple user dimension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stant Mess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ext messaging and cell 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9AAF-6929-4904-AA16-1E957E961EE5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CE43-3695-45F2-8876-122EBC2C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Synchronous distributed interface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Different place, same time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udio and video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ideoconfere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low response times for entering and leaving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istracting background a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ifficulty in determining who is spe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adequate ligh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ifficulty in making eye cont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mall image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eed for convenient turn t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eed for document sha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Fig 10"/>
          <p:cNvPicPr/>
          <p:nvPr/>
        </p:nvPicPr>
        <p:blipFill>
          <a:blip r:embed="rId1"/>
          <a:stretch/>
        </p:blipFill>
        <p:spPr>
          <a:xfrm>
            <a:off x="5257800" y="3962520"/>
            <a:ext cx="3505320" cy="1989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2A6D-6BBE-4263-8811-6C2CED93E083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CF78-EC2D-4F2A-84BF-7614D720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 distributed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lace, differ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distributed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lace,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lace,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852B-BF18-4A60-A32A-F9634F8AAAC7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C3B3-0002-42E0-935B-7AE12A81C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Face-to-face interface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Same place, same ti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lectronic meeting rooms, control rooms and public spaces Teams of people often work together in the same room and use complex shared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tock market traders view complex displays, receive orders from customers, and engage in rapid face-to-face collaboration to achieve a 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rainstorming and design teams often work closely together and use technology to record events and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business meetings structured social processes for brainstorming, voting, and ranking can produce highly productive outcomes – allowing anonymous submission of suggestions and ranking of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eeting goals such as “How can we increase sal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enef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arallel communication promotes broader input into the meeting process and reduces the chance that a few people dominate the meet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cess structure helps focus the group on key issues and discourages irrelevant digressions and unproductive behavio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Task support and structure provides information and approaches to analyze i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9247-D292-4089-AFEA-D661C6F8EC4D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5E9A-DCF3-4E84-BBE7-EE380F94C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Face-to-face interface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Same place, same time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File sh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hared work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roup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MART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ublic spaces facilitat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otification systems about new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Weather, stock pric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Fig 10"/>
          <p:cNvPicPr/>
          <p:nvPr/>
        </p:nvPicPr>
        <p:blipFill>
          <a:blip r:embed="rId1"/>
          <a:stretch/>
        </p:blipFill>
        <p:spPr>
          <a:xfrm>
            <a:off x="6400800" y="1371600"/>
            <a:ext cx="2433600" cy="243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g 10"/>
          <p:cNvPicPr/>
          <p:nvPr/>
        </p:nvPicPr>
        <p:blipFill>
          <a:blip r:embed="rId2"/>
          <a:stretch/>
        </p:blipFill>
        <p:spPr>
          <a:xfrm>
            <a:off x="6705720" y="4343400"/>
            <a:ext cx="1823760" cy="156672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621-994C-40B1-959B-23E334C7111F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ED24-4701-4555-8418-02819E6EC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Face-to-face interface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Same place, same time (cont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lectronic class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By giving each student a keyboard and a simple software, it is possible to an environment for collaboration, conversation and brainstorming. For example each student can respond to a professor’s question by typing a line which is shown with the author’s name on every student’s disp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tive individual learning experiences include using software during class time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Run business simulations to increase product qu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form psychological statistical analy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ompose computer programs and search the Inter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mall teams and larg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2010-F239-4762-A595-1F027851DE45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B727-4939-4418-A03E-210B724B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 distributed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lace, differ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distributed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lace,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lace,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8CE-D03B-40D7-AD2B-03412364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computer users were iso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omputer users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sapp, Facebook, Listservers, chat rooms,  social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as a playground or as a serious tool for creativ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ware, collaborative virtu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is emerging new computing environment will effect the quality of our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C1F-FC72-4379-9FD7-11FC0945D389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9B07-5333-4A04-A374-E088DD002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social dimension of technology, current trends lead to the sugg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uter-based tasks will become collaborative (team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as a motivating force for using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 --- a design requirement for most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F18B-2583-4640-A139-55AB43496490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642960"/>
            <a:ext cx="8208720" cy="53352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Why Collaboration?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Arial"/>
                <a:ea typeface="Times New Roman"/>
              </a:rPr>
              <a:t>Collaboration is essential as most of the companies are now moving towards global software development in this moder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d0d0d"/>
                </a:solidFill>
                <a:latin typeface="Arial"/>
                <a:ea typeface="Times New Roman"/>
              </a:rPr>
              <a:t>Global Software Development (GSD) </a:t>
            </a:r>
            <a:r>
              <a:rPr b="0" lang="en-GB" sz="2800" spc="-1" strike="noStrike">
                <a:solidFill>
                  <a:srgbClr val="0d0d0d"/>
                </a:solidFill>
                <a:latin typeface="Arial"/>
                <a:ea typeface="Times New Roman"/>
              </a:rPr>
              <a:t>is carried out by teams of knowledge workers located in various parts of the globe developing commercially viable software for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d0d0d"/>
                </a:solidFill>
                <a:latin typeface="Arial"/>
              </a:rPr>
              <a:t>Distributed Software Development and Global Software Development are similar except that GSD teams are always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1680" y="632448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d0d0d"/>
                </a:solidFill>
                <a:latin typeface="Arial Unicode MS"/>
              </a:rPr>
              <a:t>Casey, 2008, Ita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33560" y="6381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er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533680" y="1285920"/>
            <a:ext cx="6286320" cy="5519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250920" y="2421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gram of global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lobal Software Development examp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0C1A-9617-47C0-83ED-4AAB564F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MS PGothic"/>
              </a:rPr>
              <a:t>Collabor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llaboration is satisfying and 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t can be sought personally or imposed manager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als of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Focused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ecture or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tructured work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eeting and decisio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lectronic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ele-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l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ele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0E9-B3AD-409B-9A99-6B10B949B2E5}" type="slidenum">
              <a:rPr b="0" lang="ja-JP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2DB8-F6E7-4F3E-8CA0-6F7AAA7AD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Collabor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Focused partnerships 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wo/three people who need each other to complete a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amples: Joint authors, programmers debugging the sam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ols: Electronic mail, Instant Messaging,  vide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ecture or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ne person sharing information with many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amples:  Lab instructor can show his screen to the participants and he can see other screens, one exam is simultaneously given to many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creen shar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llows group members to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D9B4-4D68-4ABE-B5EF-6E7FE12826EC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E421-7912-469D-A1D3-05F55279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solidFill>
            <a:srgbClr val="00007d">
              <a:alpha val="6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Collabor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2949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tructured work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ople with distinct roles collaborate on som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8000" indent="-339480">
              <a:spcBef>
                <a:spcPts val="675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cientific journal submissions, reviews, revisions, and publication, university admission applica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eeting and 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ared and private windows plus large screen projectors enable simultaneous  shared comments that may be anony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lectronic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t includes consumer browsing, comparing prices, B to B 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ele-democrac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produce consensus through online conferences, debates and v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 312 - 01 (0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2BC6-7DEA-4F68-83FD-122B51F8AF2E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1:06:32Z</dcterms:created>
  <dc:creator>Roger</dc:creator>
  <dc:description/>
  <dc:language>en-US</dc:language>
  <cp:lastModifiedBy>niazi</cp:lastModifiedBy>
  <dcterms:modified xsi:type="dcterms:W3CDTF">2017-12-04T12:39:41Z</dcterms:modified>
  <cp:revision>219</cp:revision>
  <dc:subject/>
  <dc:title>Slide 1</dc:title>
</cp:coreProperties>
</file>